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62EB-A869-44BC-A009-EAB7A034C43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E29B-D57E-49DD-B2BC-0DEA53A98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523880" y="3840120"/>
            <a:ext cx="29870640" cy="19202400"/>
          </a:xfrm>
          <a:prstGeom prst="rect">
            <a:avLst/>
          </a:prstGeom>
          <a:ln w="0">
            <a:noFill/>
          </a:ln>
        </p:spPr>
      </p:sp>
      <p:sp>
        <p:nvSpPr>
          <p:cNvPr id="6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6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9989-5858-49A0-B47B-BD025B898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AD6AB-B07F-4169-9810-5F10A10D1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BA08F-068A-4C97-82F0-265B1F4AC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E2829-BC5E-47E2-A4D4-7348E6DC9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D6688-F8EF-4B94-B33B-680C9CCAA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123C-3FDF-4B20-89AA-8E0EB3D96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4DEBB-6BD2-4B71-B5E9-EF164C639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9E703-768F-4CF1-B477-E4A98681C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4BDD6-6E14-44FC-A57D-D88493E27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EC6F0-A9BF-4DF0-801C-8ABC90567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498AA-4E03-4E88-8773-23D41867A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4A2E-28DD-40FD-8585-6528899BA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AFC2-9A16-4908-A254-D4A656275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3C4D-C01F-43E7-AA17-51A87247544F}"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5284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sts</a:t>
            </a:r>
            <a:endParaRPr b="0" lang="en-US" sz="4400" spc="-1" strike="noStrike">
              <a:solidFill>
                <a:srgbClr val="000000"/>
              </a:solidFill>
              <a:latin typeface="Arial"/>
            </a:endParaRPr>
          </a:p>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lthough nuclear energy is a clean and healthy source of energy, you get what you pay for.  Nuclear energy is one of the more costly forms of energy.  This is because the nuclear power plant company must pay for construction and development of the power plant, which is an astronomical amount of money.  Then they must pay for the day to day up keeping of the plant, including expensive technology.  They have to pay a considerable amount to decompose the waste, and finally they must save money up to decommission the plant when it’s use life is over.  This is why the consumer cost of nuclear power is up to 8.4 cents/kWh.</a:t>
            </a:r>
            <a:endParaRPr b="0" lang="en-US" sz="36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ros</a:t>
            </a:r>
            <a:endParaRPr b="0" lang="en-US" sz="4400" spc="-1" strike="noStrike">
              <a:solidFill>
                <a:srgbClr val="000000"/>
              </a:solidFill>
              <a:latin typeface="Arial"/>
            </a:endParaRPr>
          </a:p>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Pollution-</a:t>
            </a:r>
            <a:r>
              <a:rPr b="1" lang="en-US" sz="3600" spc="-1" strike="noStrike">
                <a:solidFill>
                  <a:srgbClr val="000000"/>
                </a:solidFill>
                <a:latin typeface="Times New Roman"/>
              </a:rPr>
              <a:t> Nuclear energy produces less pollution into the air than a coal power plant.</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Abundance-</a:t>
            </a:r>
            <a:r>
              <a:rPr b="1" lang="en-US" sz="3600" spc="-1" strike="noStrike">
                <a:solidFill>
                  <a:srgbClr val="000000"/>
                </a:solidFill>
                <a:latin typeface="Times New Roman"/>
              </a:rPr>
              <a:t> The earth is running out of fossil fuels very quickly, and oil and coal are becoming scarce.  Uranium still is very abundant on the earth, and will be available for years to come.</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Conflict-</a:t>
            </a:r>
            <a:r>
              <a:rPr b="1" lang="en-US" sz="3600" spc="-1" strike="noStrike">
                <a:solidFill>
                  <a:srgbClr val="000000"/>
                </a:solidFill>
                <a:latin typeface="Times New Roman"/>
              </a:rPr>
              <a:t> Uranium is distributed relatively evenly throughout the earth so there will be little need for international conflict over nuclear energy.</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Text Box 16"/>
          <p:cNvSpPr/>
          <p:nvPr/>
        </p:nvSpPr>
        <p:spPr>
          <a:xfrm>
            <a:off x="38136600" y="20066040"/>
            <a:ext cx="12371400" cy="1086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day, there are 104  operating Nuclear Power plants in the United States, and about 435 plants world wid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d Dots= Nuclear Power Plants</a:t>
            </a:r>
            <a:endParaRPr b="0" lang="en-US" sz="3600" spc="-1" strike="noStrike">
              <a:solidFill>
                <a:srgbClr val="000000"/>
              </a:solidFill>
              <a:latin typeface="Arial"/>
            </a:endParaRPr>
          </a:p>
        </p:txBody>
      </p:sp>
      <p:sp>
        <p:nvSpPr>
          <p:cNvPr id="52" name="Text Box 12"/>
          <p:cNvSpPr/>
          <p:nvPr/>
        </p:nvSpPr>
        <p:spPr>
          <a:xfrm>
            <a:off x="14392440" y="6458040"/>
            <a:ext cx="10512360" cy="12206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How is it gathere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not truly created because according to the law of conservation of energy, energy cannot be created nor destroyed.  Nuclear energy is a potential energy that can be changed into usable forms. The process begins with extracting, usually through mining, a rock or gravel like substance called Uranium ore. (Uranium deposits are only found in certain parts of the world).  The Uranium is then sent to nuclear power plants where it is put into reactors that split several atoms, thus causing radiation. Next, a chain reaction that ultimately results in electricity is caused by the creation of that radi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Uranium 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Text Box 13"/>
          <p:cNvSpPr/>
          <p:nvPr/>
        </p:nvSpPr>
        <p:spPr>
          <a:xfrm>
            <a:off x="38082600" y="7191360"/>
            <a:ext cx="12317400" cy="12891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ns</a:t>
            </a:r>
            <a:endParaRPr b="0" lang="en-US" sz="4400" spc="-1" strike="noStrike">
              <a:solidFill>
                <a:srgbClr val="000000"/>
              </a:solidFill>
              <a:latin typeface="Arial"/>
            </a:endParaRPr>
          </a:p>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st-</a:t>
            </a:r>
            <a:r>
              <a:rPr b="1" lang="en-US" sz="3600" spc="-1" strike="noStrike">
                <a:solidFill>
                  <a:srgbClr val="000000"/>
                </a:solidFill>
                <a:latin typeface="Times New Roman"/>
              </a:rPr>
              <a:t> Nuclear energy is more expensive than most other forms of energy.</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afety-</a:t>
            </a:r>
            <a:r>
              <a:rPr b="1" lang="en-US" sz="3600" spc="-1" strike="noStrike">
                <a:solidFill>
                  <a:srgbClr val="000000"/>
                </a:solidFill>
                <a:latin typeface="Times New Roman"/>
              </a:rPr>
              <a:t> Nuclear power plants are generally safe, but when a meltdown does occur it can be devastating.</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aste-</a:t>
            </a:r>
            <a:r>
              <a:rPr b="1" lang="en-US" sz="3600" spc="-1" strike="noStrike">
                <a:solidFill>
                  <a:srgbClr val="000000"/>
                </a:solidFill>
                <a:latin typeface="Times New Roman"/>
              </a:rPr>
              <a:t> Nuclear waste remains radioactive for thousands of years.  It has to be very carefully dealt with in order to keep away from harming any form of life.</a:t>
            </a:r>
            <a:endParaRPr b="0" lang="en-US" sz="36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atrick Mahoney, Ryan Pollock</a:t>
            </a:r>
            <a:br>
              <a:rPr sz="6000"/>
            </a:br>
            <a:r>
              <a:rPr b="0"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5" name="Text Box 70"/>
          <p:cNvSpPr/>
          <p:nvPr/>
        </p:nvSpPr>
        <p:spPr>
          <a:xfrm>
            <a:off x="25871400" y="22429800"/>
            <a:ext cx="11455560" cy="9144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surized-water reactor diagram</a:t>
            </a:r>
            <a:endParaRPr b="0" lang="en-US" sz="3600" spc="-1" strike="noStrike">
              <a:solidFill>
                <a:srgbClr val="000000"/>
              </a:solidFill>
              <a:latin typeface="Arial"/>
            </a:endParaRPr>
          </a:p>
        </p:txBody>
      </p:sp>
      <p:sp>
        <p:nvSpPr>
          <p:cNvPr id="56"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114"/>
          <p:cNvSpPr/>
          <p:nvPr/>
        </p:nvSpPr>
        <p:spPr>
          <a:xfrm>
            <a:off x="25711200" y="6454800"/>
            <a:ext cx="11671200" cy="1575900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ossibilities</a:t>
            </a: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a very likely possibility as we move forward.  Fossil fuels are running low and we don’t have to many options.  It is expensive, but the most expensive part is the capital.  If we are willing to put the money in now to built sturdy power plants then it could pay off in the long run.  Some of the alternatives are even more expensive.  It is important that we find a viable and economical way to dispose of our nuclear waste before we rely to heavily on nuclear energy.  As of right now nuclear energy is not our best option but a few years down the road it may be so we should begin to prepare now.</a:t>
            </a:r>
            <a:endParaRPr b="0" lang="en-US" sz="3600" spc="-1" strike="noStrike">
              <a:solidFill>
                <a:srgbClr val="000000"/>
              </a:solidFill>
              <a:latin typeface="Arial"/>
            </a:endParaRPr>
          </a:p>
        </p:txBody>
      </p:sp>
      <p:sp>
        <p:nvSpPr>
          <p:cNvPr id="58" name="Rectangle 180"/>
          <p:cNvSpPr/>
          <p:nvPr/>
        </p:nvSpPr>
        <p:spPr>
          <a:xfrm>
            <a:off x="22115880" y="1938240"/>
            <a:ext cx="72428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Nuclear Power</a:t>
            </a:r>
            <a:endParaRPr b="0" lang="en-US" sz="8000" spc="-1" strike="noStrike">
              <a:solidFill>
                <a:srgbClr val="000000"/>
              </a:solidFill>
              <a:latin typeface="Arial"/>
            </a:endParaRPr>
          </a:p>
        </p:txBody>
      </p:sp>
      <p:pic>
        <p:nvPicPr>
          <p:cNvPr id="59" name="Picture 76" descr="nuclear_power_plant5"/>
          <p:cNvPicPr/>
          <p:nvPr/>
        </p:nvPicPr>
        <p:blipFill>
          <a:blip r:embed="rId1"/>
          <a:stretch/>
        </p:blipFill>
        <p:spPr>
          <a:xfrm>
            <a:off x="27814680" y="15254280"/>
            <a:ext cx="7970760" cy="6784920"/>
          </a:xfrm>
          <a:prstGeom prst="rect">
            <a:avLst/>
          </a:prstGeom>
          <a:ln w="0">
            <a:noFill/>
          </a:ln>
        </p:spPr>
      </p:pic>
      <p:pic>
        <p:nvPicPr>
          <p:cNvPr id="60" name="Picture 80" descr="ChernobylExplosion002"/>
          <p:cNvPicPr/>
          <p:nvPr/>
        </p:nvPicPr>
        <p:blipFill>
          <a:blip r:embed="rId2"/>
          <a:stretch/>
        </p:blipFill>
        <p:spPr>
          <a:xfrm>
            <a:off x="39352680" y="15363720"/>
            <a:ext cx="3257280" cy="4410360"/>
          </a:xfrm>
          <a:prstGeom prst="rect">
            <a:avLst/>
          </a:prstGeom>
          <a:ln w="0">
            <a:noFill/>
          </a:ln>
        </p:spPr>
      </p:pic>
      <p:pic>
        <p:nvPicPr>
          <p:cNvPr id="61" name="Picture 14" descr="Uranium_ore_square.jpg"/>
          <p:cNvPicPr/>
          <p:nvPr/>
        </p:nvPicPr>
        <p:blipFill>
          <a:blip r:embed="rId3"/>
          <a:stretch/>
        </p:blipFill>
        <p:spPr>
          <a:xfrm>
            <a:off x="22039200" y="15544800"/>
            <a:ext cx="2811600" cy="2811600"/>
          </a:xfrm>
          <a:prstGeom prst="rect">
            <a:avLst/>
          </a:prstGeom>
          <a:ln w="0">
            <a:noFill/>
          </a:ln>
        </p:spPr>
      </p:pic>
      <p:sp>
        <p:nvSpPr>
          <p:cNvPr id="62" name="TextBox 15"/>
          <p:cNvSpPr/>
          <p:nvPr/>
        </p:nvSpPr>
        <p:spPr>
          <a:xfrm>
            <a:off x="14468400" y="18772200"/>
            <a:ext cx="10328400" cy="1216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Calibri"/>
              </a:rPr>
              <a:t>Nuclear Power Pla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Nuclear power plants rely on the heat energy generated from nuclear fission to power its generators.  The nucleus of the Uranium atom is bombarded by a neutron in the plant’s reactors; eventually resulting in the production of a massive amount of energy.   One of the more important pieces of a nuclear power plant is the reactors. The energy generated by the uranium fuel is transferred to water, and is then carried away from the reactors either as steam in boiling water reactors, or as superheated water in pressurized-water reactors. These two types of reactors utilize ordinary water to transfer the heat energy from the reactor to the turbine.  Then, after the energy reaches the turbine, the turbine yields the electricity that is sent out to power homes, towns, cities, businesses, and m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16" descr="world_map.png"/>
          <p:cNvPicPr/>
          <p:nvPr/>
        </p:nvPicPr>
        <p:blipFill>
          <a:blip r:embed="rId4"/>
          <a:stretch/>
        </p:blipFill>
        <p:spPr>
          <a:xfrm>
            <a:off x="38101680" y="21699360"/>
            <a:ext cx="12298320" cy="7031160"/>
          </a:xfrm>
          <a:prstGeom prst="rect">
            <a:avLst/>
          </a:prstGeom>
          <a:ln w="0">
            <a:noFill/>
          </a:ln>
        </p:spPr>
      </p:pic>
      <p:pic>
        <p:nvPicPr>
          <p:cNvPr id="64" name="Picture 17" descr="Info_Standort_KKG_10_0001.jpg"/>
          <p:cNvPicPr/>
          <p:nvPr/>
        </p:nvPicPr>
        <p:blipFill>
          <a:blip r:embed="rId5"/>
          <a:stretch/>
        </p:blipFill>
        <p:spPr>
          <a:xfrm>
            <a:off x="43602120" y="14878080"/>
            <a:ext cx="5453280" cy="4921200"/>
          </a:xfrm>
          <a:prstGeom prst="rect">
            <a:avLst/>
          </a:prstGeom>
          <a:ln w="0">
            <a:noFill/>
          </a:ln>
        </p:spPr>
      </p:pic>
      <p:pic>
        <p:nvPicPr>
          <p:cNvPr id="65" name="Picture 18" descr="PWR.jpg"/>
          <p:cNvPicPr/>
          <p:nvPr/>
        </p:nvPicPr>
        <p:blipFill>
          <a:blip r:embed="rId6"/>
          <a:stretch/>
        </p:blipFill>
        <p:spPr>
          <a:xfrm>
            <a:off x="26350920" y="23658480"/>
            <a:ext cx="10441080" cy="75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Reading Memorial High School</cp:lastModifiedBy>
  <cp:lastPrinted>2010-02-25T14:58:49Z</cp:lastPrinted>
  <dcterms:modified xsi:type="dcterms:W3CDTF">2010-04-06T11:50:20Z</dcterms:modified>
  <cp:revision>44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