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0DFC-3806-465A-A75D-5BA2DA819B2B}"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EEB5-4E7B-4D75-8CCA-B2FA1C945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23880" y="3840120"/>
            <a:ext cx="29870640" cy="19202400"/>
          </a:xfrm>
          <a:prstGeom prst="rect">
            <a:avLst/>
          </a:prstGeom>
          <a:ln w="0">
            <a:noFill/>
          </a:ln>
        </p:spPr>
      </p:sp>
      <p:sp>
        <p:nvSpPr>
          <p:cNvPr id="77"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Or, send me cookies!  My kids made me put that last sentence in.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8"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7E3A-1073-4419-B021-C6EEDC749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609A6-788B-4B39-BF79-614350AD7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CEC65-F422-46C3-B1BD-171DC009D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7ED1B-B7DE-4E76-81DB-81311BBC5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EABE2-2477-4F3F-BB78-085E45EED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90362-0412-4775-8866-A64E25F6A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690B0-4F3C-4DDE-957E-531B08115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4366C-FFE7-4252-94E6-8A0E7D93B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88354-E874-459F-B8CA-21A5ED3C8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CD837-B9F2-4476-A9DE-FD79B6597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96D1D-A582-4A34-9907-365A1DB5D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EA127-2BF3-4486-8FE5-AB0E746A8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658BA-365E-47EC-8D8B-CFCAD5A32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8B2D-D835-460E-94F6-F688A281299E}"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077840" y="1550880"/>
            <a:ext cx="49528440" cy="31367520"/>
          </a:xfrm>
          <a:prstGeom prst="rect">
            <a:avLst/>
          </a:prstGeom>
          <a:gradFill rotWithShape="0">
            <a:gsLst>
              <a:gs pos="0">
                <a:srgbClr val="ffffac"/>
              </a:gs>
              <a:gs pos="100000">
                <a:srgbClr val="feff5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1534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What is Solar Energy? </a:t>
            </a:r>
            <a:endParaRPr b="0" lang="en-US" sz="4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ar Energy</a:t>
            </a:r>
            <a:r>
              <a:rPr b="0" lang="en-US" sz="2400" spc="-1" strike="noStrike">
                <a:solidFill>
                  <a:srgbClr val="000000"/>
                </a:solidFill>
                <a:latin typeface="Times New Roman"/>
              </a:rPr>
              <a:t> is energy from the sun that is converted into thermal or electrical energy.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ar energy is cleaner, more environmentally friendly, more abundant, more available, and more flexible than any other energy resource.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mal Energy</a:t>
            </a:r>
            <a:r>
              <a:rPr b="0" lang="en-US" sz="2400" spc="-1" strike="noStrike">
                <a:solidFill>
                  <a:srgbClr val="000000"/>
                </a:solidFill>
                <a:latin typeface="Times New Roman"/>
              </a:rPr>
              <a:t> is what heats up objects. By using solar hot water generators one can heat up an outdoor pool or hot tub. Another way to obtain thermal energy is by using a solar tower which is a large solar chimney where heated air rises and drives the wind turbines that generate electricity.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parts to thermal energy that can heat and object, actively or passively.</a:t>
            </a:r>
            <a:r>
              <a:rPr b="0" lang="en-US" sz="3200" spc="-1" strike="noStrike">
                <a:solidFill>
                  <a:srgbClr val="000000"/>
                </a:solidFill>
                <a:latin typeface="Arial"/>
              </a:rPr>
              <a:t> </a:t>
            </a:r>
            <a:endParaRPr b="0" lang="en-US" sz="3200" spc="-1" strike="noStrike">
              <a:solidFill>
                <a:srgbClr val="000000"/>
              </a:solidFill>
              <a:latin typeface="Arial"/>
            </a:endParaRPr>
          </a:p>
          <a:p>
            <a:pPr>
              <a:lnSpc>
                <a:spcPct val="100000"/>
              </a:lnSpc>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Active Solar Energy</a:t>
            </a:r>
            <a:r>
              <a:rPr b="0" lang="en-US" sz="2400" spc="-1" strike="noStrike">
                <a:solidFill>
                  <a:srgbClr val="000000"/>
                </a:solidFill>
                <a:latin typeface="Times New Roman"/>
              </a:rPr>
              <a:t> uses electrical or mechanical equipment to increase the usable heat in a system</a:t>
            </a:r>
            <a:endParaRPr b="0" lang="en-US" sz="2400" spc="-1" strike="noStrike">
              <a:solidFill>
                <a:srgbClr val="000000"/>
              </a:solidFill>
              <a:latin typeface="Arial"/>
            </a:endParaRPr>
          </a:p>
          <a:p>
            <a:pPr>
              <a:lnSpc>
                <a:spcPct val="100000"/>
              </a:lnSpc>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ssive Solar Energy</a:t>
            </a:r>
            <a:r>
              <a:rPr b="0" lang="en-US" sz="2400" spc="-1" strike="noStrike">
                <a:solidFill>
                  <a:srgbClr val="000000"/>
                </a:solidFill>
                <a:latin typeface="Times New Roman"/>
              </a:rPr>
              <a:t> uses sunlight for useful energy without use of active mechanical system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ctrical Energy</a:t>
            </a:r>
            <a:r>
              <a:rPr b="0" lang="en-US" sz="2400" spc="-1" strike="noStrike">
                <a:solidFill>
                  <a:srgbClr val="000000"/>
                </a:solidFill>
                <a:latin typeface="Times New Roman"/>
              </a:rPr>
              <a:t> is when solar cells are used to capture the sun’s energy and convert it into direct current electricity. This electric energy can be used to power the lighting and appliances in your home.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parts to thermal energy, stand-alone and grid connected.</a:t>
            </a:r>
            <a:endParaRPr b="0" lang="en-US" sz="2400" spc="-1" strike="noStrike">
              <a:solidFill>
                <a:srgbClr val="000000"/>
              </a:solidFill>
              <a:latin typeface="Arial"/>
            </a:endParaRPr>
          </a:p>
          <a:p>
            <a:pPr>
              <a:lnSpc>
                <a:spcPct val="100000"/>
              </a:lnSpc>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Stand-alone</a:t>
            </a:r>
            <a:r>
              <a:rPr b="0" lang="en-US" sz="2400" spc="-1" strike="noStrike">
                <a:solidFill>
                  <a:srgbClr val="000000"/>
                </a:solidFill>
                <a:latin typeface="Times New Roman"/>
              </a:rPr>
              <a:t> involves a solar panel directly connected to the appliance</a:t>
            </a:r>
            <a:endParaRPr b="0" lang="en-US" sz="2400" spc="-1" strike="noStrike">
              <a:solidFill>
                <a:srgbClr val="000000"/>
              </a:solidFill>
              <a:latin typeface="Arial"/>
            </a:endParaRPr>
          </a:p>
          <a:p>
            <a:pPr>
              <a:lnSpc>
                <a:spcPct val="100000"/>
              </a:lnSpc>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Grid Connected</a:t>
            </a:r>
            <a:r>
              <a:rPr b="0" lang="en-US" sz="2400" spc="-1" strike="noStrike">
                <a:solidFill>
                  <a:srgbClr val="000000"/>
                </a:solidFill>
                <a:latin typeface="Times New Roman"/>
              </a:rPr>
              <a:t> is where solar power is put into the grid which is supplied by other fossil fuel electric generator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1"/>
          <p:cNvSpPr/>
          <p:nvPr/>
        </p:nvSpPr>
        <p:spPr>
          <a:xfrm>
            <a:off x="2025720" y="19342080"/>
            <a:ext cx="10512360" cy="121284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How is it Collected and Made into Usable Energy?</a:t>
            </a:r>
            <a:endParaRPr b="0" lang="en-US" sz="4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solar panels convert the Sun's energy into electricity?</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ar panels are made of solar cells, which are attached by wire to a circuit. The light is converted into electricity that flows through the circuit, channeling energy throughout the home or building. As soon as the light is removed, the solar cell stops producing power.</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6"/>
          <p:cNvSpPr/>
          <p:nvPr/>
        </p:nvSpPr>
        <p:spPr>
          <a:xfrm>
            <a:off x="38333520" y="22372560"/>
            <a:ext cx="10254960" cy="89791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Pictography</a:t>
            </a:r>
            <a:endParaRPr b="0" lang="en-US" sz="4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amp; Wind Power Generation Products. “Solar Panels.” Illustration. Available from http://www.sadoun.com/solar/index.htm. Internet: accessed 27 March 2010. </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olar Energy.” Illustration. Available from http://greyfalcon.net/solarenergy.png. Internet: accessed 29 March 2010. </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olar Panels.” Photograph. Available from http://solar.envirohub.net/. Internet: accessed 27 March 2010. </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olar Power.” Photograph. Avaible from http://www.portaec.net/library/energy/solar_power.jpg. Internet: accessed 28 March 2010.</a:t>
            </a: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olar Water Heating.” Illustration. Available from http://www.petervaldivia.com/technology/energy/solar-power.php. Internet: accessed 27 March 2010. </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Domestic Solar Power System” Illustration. Available from http://saferenvironment.files.wordpress.com/2009/02/domestic_solar_power_system_1.jpg . Internet: accessed 27 March 2010.</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unsations.” Illustration. Available from http://www.mysunsationsonline.com/. Internet: accessed 29 March 2010.</a:t>
            </a: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2" name="Text Box 12"/>
          <p:cNvSpPr/>
          <p:nvPr/>
        </p:nvSpPr>
        <p:spPr>
          <a:xfrm>
            <a:off x="14262120" y="7237440"/>
            <a:ext cx="10512360" cy="24239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Pros and Cons of Solar Energy</a:t>
            </a:r>
            <a:endParaRPr b="0" lang="en-US" sz="4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olar Energy Pro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ves off no pollution</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duces electricity very quietly</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harness electricity in remote locations that are not linked to a national grid (i.e. space)</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tillation of solar panels in remote locations is usually much more cost effective than laying the required high voltage wire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panels can be installed on top of many rooftops, eliminating the problem of finding the required space for solar panel placement</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ough initial investments of solar cells may be high, once installed, they provide a free source of electricity, which will pay off over the coming year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ows the user to become less dependent on the world’s fossil fuel supplies</a:t>
            </a: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olar Energy Con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jor con is the initial cost of solar cell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rices of highly efficient solar cells can be above $1000, and some households may need more than one</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is only able to generate electricity during daylight hours, which means that for around half of each day, solar panels are not producing energy for your home</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weather can affect the efficiency of solar cells</a:t>
            </a:r>
            <a:endParaRPr b="0" lang="en-US" sz="2400" spc="-1" strike="noStrike">
              <a:solidFill>
                <a:srgbClr val="000000"/>
              </a:solidFill>
              <a:latin typeface="Arial"/>
            </a:endParaRPr>
          </a:p>
          <a:p>
            <a:pPr>
              <a:lnSpc>
                <a:spcPct val="100000"/>
              </a:lnSpc>
              <a:spcBef>
                <a:spcPts val="300"/>
              </a:spcBef>
              <a:buClr>
                <a:srgbClr val="000000"/>
              </a:buClr>
              <a:buFont typeface="Wingdings" charset="2"/>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llution levels can affect a solar cell’s efficiency, which is a major disadvantage for businesses or industries wishing to install solar panels in heavily polluted areas, like cities</a:t>
            </a:r>
            <a:endParaRPr b="0" lang="en-US" sz="2400" spc="-1" strike="noStrike">
              <a:solidFill>
                <a:srgbClr val="000000"/>
              </a:solidFill>
              <a:latin typeface="Arial"/>
            </a:endParaRPr>
          </a:p>
        </p:txBody>
      </p:sp>
      <p:sp>
        <p:nvSpPr>
          <p:cNvPr id="53" name="Text Box 13"/>
          <p:cNvSpPr/>
          <p:nvPr/>
        </p:nvSpPr>
        <p:spPr>
          <a:xfrm>
            <a:off x="38355480" y="7346880"/>
            <a:ext cx="10226880" cy="14641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Future of Solar Energy</a:t>
            </a:r>
            <a:endParaRPr b="0" lang="en-US" sz="4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ll of our buildings featured energy-efficient design, construction, and materials, each building would both conserve energy and produce its own supply, creating no need for nonrenewable energy.</a:t>
            </a: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ert area could be used to harness a massive amount of solar power, as a desert area 10 miles by 15 miles could provide 20,000 megawatts of power.</a:t>
            </a: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10 years, photovoltaic power will be competitive in price with traditional sources of electricity, making it much more appealing to consumers.</a:t>
            </a:r>
            <a:endParaRPr b="0" lang="en-US" sz="24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ourtney Gingras and Breezy Pearson</a:t>
            </a:r>
            <a:br>
              <a:rPr sz="6000"/>
            </a:br>
            <a:r>
              <a:rPr b="0" lang="en-US" sz="6000" spc="-1" strike="noStrike">
                <a:solidFill>
                  <a:srgbClr val="000000"/>
                </a:solidFill>
                <a:latin typeface="Arial"/>
              </a:rPr>
              <a:t>CP Physics, Reading Memorial High School</a:t>
            </a:r>
            <a:endParaRPr b="0" lang="en-US" sz="6000" spc="-1" strike="noStrike">
              <a:solidFill>
                <a:srgbClr val="000000"/>
              </a:solidFill>
              <a:latin typeface="Arial"/>
            </a:endParaRPr>
          </a:p>
        </p:txBody>
      </p:sp>
      <p:sp>
        <p:nvSpPr>
          <p:cNvPr id="55" name="Text Box 114"/>
          <p:cNvSpPr/>
          <p:nvPr/>
        </p:nvSpPr>
        <p:spPr>
          <a:xfrm>
            <a:off x="25784280" y="7254720"/>
            <a:ext cx="10512360" cy="2419524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6" name="Rectangle 180"/>
          <p:cNvSpPr/>
          <p:nvPr/>
        </p:nvSpPr>
        <p:spPr>
          <a:xfrm>
            <a:off x="8599320" y="1938240"/>
            <a:ext cx="343792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0000"/>
                </a:solidFill>
                <a:latin typeface="Arial"/>
              </a:rPr>
              <a:t>Here Comes the Sun: A Growing World of Solar Energy</a:t>
            </a:r>
            <a:endParaRPr b="0" lang="en-US" sz="8800" spc="-1" strike="noStrike">
              <a:solidFill>
                <a:srgbClr val="000000"/>
              </a:solidFill>
              <a:latin typeface="Arial"/>
            </a:endParaRPr>
          </a:p>
        </p:txBody>
      </p:sp>
      <p:graphicFrame>
        <p:nvGraphicFramePr>
          <p:cNvPr id="57" name=""/>
          <p:cNvGraphicFramePr/>
          <p:nvPr/>
        </p:nvGraphicFramePr>
        <p:xfrm>
          <a:off x="39389040" y="17049600"/>
          <a:ext cx="4946760" cy="4327560"/>
        </p:xfrm>
        <a:graphic>
          <a:graphicData uri="http://schemas.openxmlformats.org/presentationml/2006/ole">
            <p:oleObj progId="Word.Document.12" r:id="rId1" spid="">
              <p:embed/>
              <p:pic>
                <p:nvPicPr>
                  <p:cNvPr id="58" name="" descr=""/>
                  <p:cNvPicPr/>
                  <p:nvPr/>
                </p:nvPicPr>
                <p:blipFill>
                  <a:blip r:embed="rId2"/>
                  <a:stretch/>
                </p:blipFill>
                <p:spPr>
                  <a:xfrm>
                    <a:off x="39389040" y="17049600"/>
                    <a:ext cx="4946760" cy="4327560"/>
                  </a:xfrm>
                  <a:prstGeom prst="rect">
                    <a:avLst/>
                  </a:prstGeom>
                  <a:ln w="0">
                    <a:noFill/>
                  </a:ln>
                </p:spPr>
              </p:pic>
            </p:oleObj>
          </a:graphicData>
        </a:graphic>
      </p:graphicFrame>
      <p:sp>
        <p:nvSpPr>
          <p:cNvPr id="59" name=""/>
          <p:cNvSpPr/>
          <p:nvPr/>
        </p:nvSpPr>
        <p:spPr>
          <a:xfrm>
            <a:off x="27018720" y="7648560"/>
            <a:ext cx="688644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Uses of Solar Energy</a:t>
            </a:r>
            <a:endParaRPr b="0" lang="en-US" sz="4400" spc="-1" strike="noStrike">
              <a:solidFill>
                <a:srgbClr val="000000"/>
              </a:solidFill>
              <a:latin typeface="Arial"/>
            </a:endParaRPr>
          </a:p>
        </p:txBody>
      </p:sp>
      <p:sp>
        <p:nvSpPr>
          <p:cNvPr id="60" name=""/>
          <p:cNvSpPr/>
          <p:nvPr/>
        </p:nvSpPr>
        <p:spPr>
          <a:xfrm>
            <a:off x="26495280" y="8761320"/>
            <a:ext cx="8885160" cy="139384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ty Residential Home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V systems (solar cells) are being installed on to buildings and homes to supply a more independent source of energy for peop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ustrial Application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has been the power supply of choice for industrial applications, required at remote location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is also frequently used on transportation signaling, like:offshore navigation buoys, lighthouses, etc.</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is highly reliable and requires little maintenance, making it ideal in places that are hard to get to, so it’s a major benefit for industri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er Pumping, Lighting, and Heating</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hools, community halls, and clinics can all benefit from using solar energy</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can power TV, video, telephones, and refrigeration equipment</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V systems can be used to pump water in remote areas, like as part of a portable water supply system</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can power area lighting to enable more outdoor activities after dark, improve security, and illuminate signs or advertising board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rcial Building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can be used in office buildings, and can be semi-transparent to provide shaded light</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modules can easily be put on top of large factory roof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nshades and balconies can be made incorporating a PV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Recreational Application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equently used in consumer product applications that require small amounts of energy, like calculato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26163720" y="22607640"/>
            <a:ext cx="9207360" cy="85460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Expenses and Savings</a:t>
            </a:r>
            <a:endParaRPr b="0" lang="en-US" sz="4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vings from Solar Power</a:t>
            </a:r>
            <a:endParaRPr b="0" lang="en-US" sz="2400" spc="-1" strike="noStrike">
              <a:solidFill>
                <a:srgbClr val="000000"/>
              </a:solidFill>
              <a:latin typeface="Arial"/>
            </a:endParaRPr>
          </a:p>
          <a:p>
            <a:pPr>
              <a:lnSpc>
                <a:spcPct val="100000"/>
              </a:lnSpc>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ills can be around 70% less, or could even reach zero when using solar panels as your main or sole source of energy for your home</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nses of Solar Power</a:t>
            </a:r>
            <a:endParaRPr b="0" lang="en-US" sz="2400" spc="-1" strike="noStrike">
              <a:solidFill>
                <a:srgbClr val="000000"/>
              </a:solidFill>
              <a:latin typeface="Arial"/>
            </a:endParaRPr>
          </a:p>
          <a:p>
            <a:pPr>
              <a:lnSpc>
                <a:spcPct val="100000"/>
              </a:lnSpc>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verage cost to buy and install a typical home solar system is $20,000 to $25, 000</a:t>
            </a:r>
            <a:endParaRPr b="0" lang="en-US" sz="2400" spc="-1" strike="noStrike">
              <a:solidFill>
                <a:srgbClr val="000000"/>
              </a:solidFill>
              <a:latin typeface="Arial"/>
            </a:endParaRPr>
          </a:p>
          <a:p>
            <a:pPr>
              <a:lnSpc>
                <a:spcPct val="100000"/>
              </a:lnSpc>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ar energy (photovoltaic) prices have declined on average 4% per year over the past 15 years</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Mathematical Figures</a:t>
            </a:r>
            <a:endParaRPr b="0" lang="en-US" sz="4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n provides Earth with 120,000 TW, so more more energy from the sun hits the earth in one hour than all of the energy consumed on our planet in an entire year</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ar energy production accounts for less than 0.01% of the total Global Primary Energy demand. </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8577360" y="25758720"/>
            <a:ext cx="3743280" cy="115956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shown below illustrates a water heating circui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sun is collected it is sent through either the cold or hot water tube, then sent to the boil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
          <p:cNvSpPr/>
          <p:nvPr/>
        </p:nvSpPr>
        <p:spPr>
          <a:xfrm>
            <a:off x="2674800" y="28703520"/>
            <a:ext cx="3176640" cy="13726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shown above demonstrates how the solar panels collect the suns rays and are transformed into and electric current that can be used to charge a battery and inver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
          <p:cNvSpPr/>
          <p:nvPr/>
        </p:nvSpPr>
        <p:spPr>
          <a:xfrm>
            <a:off x="22344120" y="20024640"/>
            <a:ext cx="2055600" cy="115956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shown at the left illustrates how the energy from solar cells transfer throughout a house. </a:t>
            </a:r>
            <a:endParaRPr b="0" lang="en-US" sz="1400" spc="-1" strike="noStrike">
              <a:solidFill>
                <a:srgbClr val="000000"/>
              </a:solidFill>
              <a:latin typeface="Arial"/>
            </a:endParaRPr>
          </a:p>
        </p:txBody>
      </p:sp>
      <p:sp>
        <p:nvSpPr>
          <p:cNvPr id="65" name=""/>
          <p:cNvSpPr/>
          <p:nvPr/>
        </p:nvSpPr>
        <p:spPr>
          <a:xfrm>
            <a:off x="14706720" y="30741840"/>
            <a:ext cx="9431280" cy="73332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above shows how popular solar energy is compared to the other sources of energy like coal, natural gas, uranium, oil, and tar san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
          <p:cNvSpPr/>
          <p:nvPr/>
        </p:nvSpPr>
        <p:spPr>
          <a:xfrm>
            <a:off x="39660120" y="21472560"/>
            <a:ext cx="3861360" cy="520200"/>
          </a:xfrm>
          <a:prstGeom prst="rect">
            <a:avLst/>
          </a:prstGeom>
          <a:no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solar panels are used to collect the suns ray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
          <p:cNvSpPr/>
          <p:nvPr/>
        </p:nvSpPr>
        <p:spPr>
          <a:xfrm>
            <a:off x="39973320" y="14638320"/>
            <a:ext cx="2270160" cy="20120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agram to the right shows how solar panels can be used at people’s homes as a source of energy. The solar panels are attached to the roof of the house that collect the suns rays to power your household applianc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
          <p:cNvSpPr/>
          <p:nvPr/>
        </p:nvSpPr>
        <p:spPr>
          <a:xfrm>
            <a:off x="2857680" y="24879240"/>
            <a:ext cx="4228920" cy="57960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3"/>
          <a:stretch/>
        </p:blipFill>
        <p:spPr>
          <a:xfrm>
            <a:off x="2181240" y="24126840"/>
            <a:ext cx="5021280" cy="4133880"/>
          </a:xfrm>
          <a:prstGeom prst="rect">
            <a:avLst/>
          </a:prstGeom>
          <a:ln w="3240">
            <a:solidFill>
              <a:srgbClr val="000000"/>
            </a:solidFill>
            <a:miter/>
          </a:ln>
        </p:spPr>
      </p:pic>
      <p:pic>
        <p:nvPicPr>
          <p:cNvPr id="70" name="" descr=""/>
          <p:cNvPicPr/>
          <p:nvPr/>
        </p:nvPicPr>
        <p:blipFill>
          <a:blip r:embed="rId4"/>
          <a:stretch/>
        </p:blipFill>
        <p:spPr>
          <a:xfrm>
            <a:off x="7443720" y="27027360"/>
            <a:ext cx="4780080" cy="4209840"/>
          </a:xfrm>
          <a:prstGeom prst="rect">
            <a:avLst/>
          </a:prstGeom>
          <a:ln w="3240">
            <a:solidFill>
              <a:srgbClr val="000000"/>
            </a:solidFill>
            <a:miter/>
          </a:ln>
        </p:spPr>
      </p:pic>
      <p:pic>
        <p:nvPicPr>
          <p:cNvPr id="71" name="" descr=""/>
          <p:cNvPicPr/>
          <p:nvPr/>
        </p:nvPicPr>
        <p:blipFill>
          <a:blip r:embed="rId5"/>
          <a:stretch/>
        </p:blipFill>
        <p:spPr>
          <a:xfrm>
            <a:off x="16233840" y="19129320"/>
            <a:ext cx="5823000" cy="4917960"/>
          </a:xfrm>
          <a:prstGeom prst="rect">
            <a:avLst/>
          </a:prstGeom>
          <a:ln w="0">
            <a:noFill/>
          </a:ln>
        </p:spPr>
      </p:pic>
      <p:pic>
        <p:nvPicPr>
          <p:cNvPr id="72" name="" descr=""/>
          <p:cNvPicPr/>
          <p:nvPr/>
        </p:nvPicPr>
        <p:blipFill>
          <a:blip r:embed="rId6"/>
          <a:stretch/>
        </p:blipFill>
        <p:spPr>
          <a:xfrm>
            <a:off x="14774760" y="24150600"/>
            <a:ext cx="9655200" cy="6573960"/>
          </a:xfrm>
          <a:prstGeom prst="rect">
            <a:avLst/>
          </a:prstGeom>
          <a:ln w="0">
            <a:noFill/>
          </a:ln>
        </p:spPr>
      </p:pic>
      <p:pic>
        <p:nvPicPr>
          <p:cNvPr id="73" name="" descr=""/>
          <p:cNvPicPr/>
          <p:nvPr/>
        </p:nvPicPr>
        <p:blipFill>
          <a:blip r:embed="rId7"/>
          <a:stretch/>
        </p:blipFill>
        <p:spPr>
          <a:xfrm>
            <a:off x="42967440" y="12872880"/>
            <a:ext cx="5314680" cy="3986280"/>
          </a:xfrm>
          <a:prstGeom prst="rect">
            <a:avLst/>
          </a:prstGeom>
          <a:ln w="0">
            <a:noFill/>
          </a:ln>
        </p:spPr>
      </p:pic>
      <p:pic>
        <p:nvPicPr>
          <p:cNvPr id="74" name="" descr=""/>
          <p:cNvPicPr/>
          <p:nvPr/>
        </p:nvPicPr>
        <p:blipFill>
          <a:blip r:embed="rId8"/>
          <a:stretch/>
        </p:blipFill>
        <p:spPr>
          <a:xfrm>
            <a:off x="2152800" y="1666800"/>
            <a:ext cx="5037120" cy="5037120"/>
          </a:xfrm>
          <a:prstGeom prst="rect">
            <a:avLst/>
          </a:prstGeom>
          <a:ln w="0">
            <a:noFill/>
          </a:ln>
        </p:spPr>
      </p:pic>
      <p:pic>
        <p:nvPicPr>
          <p:cNvPr id="75" name="" descr=""/>
          <p:cNvPicPr/>
          <p:nvPr/>
        </p:nvPicPr>
        <p:blipFill>
          <a:blip r:embed="rId9"/>
          <a:stretch/>
        </p:blipFill>
        <p:spPr>
          <a:xfrm>
            <a:off x="43768800" y="1711440"/>
            <a:ext cx="5038920" cy="503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17:37:26Z</dcterms:created>
  <dc:creator>Colin Purrington</dc:creator>
  <dc:description>Suggestions and gripes to: cpurrin1@swarthmore.edu</dc:description>
  <cp:keywords/>
  <dc:language>en-US</dc:language>
  <cp:lastModifiedBy>Breezy</cp:lastModifiedBy>
  <cp:lastPrinted>2009-04-08T18:36:54Z</cp:lastPrinted>
  <dcterms:modified xsi:type="dcterms:W3CDTF">2010-04-01T01:11:20Z</dcterms:modified>
  <cp:revision>481</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