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gif" ContentType="image/gif"/>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A1DA1-A73B-492B-8EA5-EE65768868AC}"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21C40-FF8C-4704-86A8-A34F75971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523880" y="3840120"/>
            <a:ext cx="29870640" cy="19202400"/>
          </a:xfrm>
          <a:prstGeom prst="rect">
            <a:avLst/>
          </a:prstGeom>
          <a:ln w="0">
            <a:noFill/>
          </a:ln>
        </p:spPr>
      </p:sp>
      <p:sp>
        <p:nvSpPr>
          <p:cNvPr id="69"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inventors.about.com/library/inventors/bl_lester_pelton.ht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technologystudent.com/energy1/hydr2.ht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darvill.clara.net/altenerg/hydro.ht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new.wvic.com/index.php?option=com_content&amp;task=view&amp;id=7&amp;Itemid=4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ga.water.usgs.gov/edu/hyhowworks.htm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brighthub.com/engineering/mechanical/articles/9017.aspx</a:t>
            </a:r>
            <a:endParaRPr b="0" lang="en-US" sz="1200" spc="-1" strike="noStrike">
              <a:solidFill>
                <a:srgbClr val="000000"/>
              </a:solidFill>
              <a:latin typeface="Calibri"/>
            </a:endParaRPr>
          </a:p>
        </p:txBody>
      </p:sp>
      <p:sp>
        <p:nvSpPr>
          <p:cNvPr id="70"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B1F3E-438D-45E8-954A-C591AA39F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19A60-D564-411F-B6B6-598AA65D0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801F5-56CB-4BA1-AC79-D16527636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82500-48D0-46F5-84E7-C52928DE6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0E22B-1E5D-4655-8246-090773715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0B6AD-8246-4BC3-8B81-59EEDD9C7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E5076-848B-438D-99CB-118D2B964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303C0-C6D2-45D4-80FF-E1D5F2C0E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AC62E-D495-44E3-B8DD-62C936129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E2310-C2F0-43C8-911C-CA00B14B1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A36DC-82D2-49B9-884E-A2A4884CF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DA23C-EEE4-4159-9F1D-1F43D595E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A06D3-0878-426D-A463-E6BBE2CCB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E34AE-D8AC-4B71-BA53-B36DD2B1EA19}"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1204920" y="1146240"/>
            <a:ext cx="49528440" cy="31367520"/>
          </a:xfrm>
          <a:prstGeom prst="rect">
            <a:avLst/>
          </a:prstGeom>
          <a:solidFill>
            <a:srgbClr val="0020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35080" y="7097760"/>
            <a:ext cx="1051236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rPr>
              <a:t>Inventing the Water Turbine</a:t>
            </a:r>
            <a:endParaRPr b="0" lang="en-US" sz="4400" spc="-1" strike="noStrike">
              <a:solidFill>
                <a:srgbClr val="000000"/>
              </a:solidFill>
              <a:latin typeface="Arial"/>
            </a:endParaRPr>
          </a:p>
          <a:p>
            <a:pPr algn="just">
              <a:lnSpc>
                <a:spcPct val="100000"/>
              </a:lnSpc>
              <a:spcBef>
                <a:spcPts val="15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elton Turbine was invented by Lester Pelton and was later improved by Eric Crewdson.  Pelton, was born in Vermillin, Ohio and immigrated to California during the gold rush. During this era there was a great demand for power sources needed to mine gold. Pelton realized water power was abundant because of running mountain creeks and water falls. Pelton’s turbine could now be used on smaller fast rivers rather than its similar counterpart the water wheel which could only be used on large slow moving rivers. Pelton’s wheel soon became a landmarked design which used cups rather than flat panels to gather the water. Pelton entered his turbine in a competition held in 1883 by the Idaho mining company of grass valley, California. Pelton smashed his competition with his turbine being 90.2% efficient with second place being a mere 76.5% efficient. After his victory Pelton began the Pelton Water Wheel company in San Francisco in 1888. The company started to mass manufacture his new water turbine. In 1920 Eric Crewdson challenged Pelton’s turbine with the invention of the turgo impulse wheel. It was smaller and cheaper to manufacture.</a:t>
            </a:r>
            <a:endParaRPr b="0" lang="en-US" sz="2400" spc="-1" strike="noStrike">
              <a:solidFill>
                <a:srgbClr val="000000"/>
              </a:solidFill>
              <a:latin typeface="Arial"/>
            </a:endParaRPr>
          </a:p>
          <a:p>
            <a:pPr algn="just">
              <a:lnSpc>
                <a:spcPct val="100000"/>
              </a:lnSpc>
              <a:spcBef>
                <a:spcPts val="15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7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 Box 11"/>
          <p:cNvSpPr/>
          <p:nvPr/>
        </p:nvSpPr>
        <p:spPr>
          <a:xfrm>
            <a:off x="2092320" y="19303920"/>
            <a:ext cx="10512360" cy="12128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rPr>
              <a:t>How It Works</a:t>
            </a:r>
            <a:r>
              <a:rPr b="0" lang="en-US" sz="2400" spc="-1" strike="noStrike">
                <a:solidFill>
                  <a:srgbClr val="ff8000"/>
                </a:solidFill>
                <a:latin typeface="Times New Roman"/>
              </a:rPr>
              <a:t>	</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efficient setting for hydroelectric power is on a large river that has a large drop in elevation, at the drop a dam will be built. The water is stored in a reservoir behind the dam. Close to the bottom of the dam is where the water is brought in. Do to the force of gravity water falls through the penstock into the dam. The water travels along the penstock toward a turbine propeller where the water moves the blades. A shaft on the turbine is pushed up inside the generator as the water flows through the turbine, this is what produces the power. Power lines are connected to the generator. Through these wires is how electricity is brought to houses. After the water passes through the turbine it goes back in the river past the dam.</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12"/>
          <p:cNvSpPr/>
          <p:nvPr/>
        </p:nvSpPr>
        <p:spPr>
          <a:xfrm>
            <a:off x="13890600" y="7113600"/>
            <a:ext cx="10512360" cy="24239520"/>
          </a:xfrm>
          <a:prstGeom prst="rect">
            <a:avLst/>
          </a:prstGeom>
          <a:solidFill>
            <a:srgbClr val="ffffff"/>
          </a:solidFill>
          <a:ln w="38160">
            <a:solidFill>
              <a:srgbClr val="0d0d0d"/>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rPr>
              <a:t>Advantages</a:t>
            </a:r>
            <a:endParaRPr b="0" lang="en-US" sz="4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Electricity can be produced constantly after the dam has been created for it.</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With the way the dam is built the doors can be shut, stopping the water from going through the generator when electricity is not needed.  When electricity is at a high demand again the doors can be opened and the saved up water can run through saving electricity.</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0" lang="en-US" sz="2400" spc="-1" strike="noStrike">
                <a:solidFill>
                  <a:srgbClr val="000000"/>
                </a:solidFill>
                <a:latin typeface="Times New Roman"/>
                <a:ea typeface="Times New Roman"/>
              </a:rPr>
              <a:t> The creators of dams made sure that when the dams were being made they would be able to last for generations meaning they will be able to be used for hundreds of years. </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r>
              <a:rPr b="0" lang="en-US" sz="2400" spc="-1" strike="noStrike">
                <a:solidFill>
                  <a:srgbClr val="000000"/>
                </a:solidFill>
                <a:latin typeface="Times New Roman"/>
                <a:ea typeface="Times New Roman"/>
              </a:rPr>
              <a:t> Along with being used to create hydroelectric power, some dams are used as tourist attractions.  Also the river or lake that the dam is made on can be used for leisure activities and water sports.</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a:t>
            </a:r>
            <a:r>
              <a:rPr b="0" lang="en-US" sz="2400" spc="-1" strike="noStrike">
                <a:solidFill>
                  <a:srgbClr val="000000"/>
                </a:solidFill>
                <a:latin typeface="Times New Roman"/>
                <a:ea typeface="Times New Roman"/>
              </a:rPr>
              <a:t> The water that runs through the lake can also be used for irrigation reasons.</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a:t>
            </a:r>
            <a:r>
              <a:rPr b="0" lang="en-US" sz="2400" spc="-1" strike="noStrike">
                <a:solidFill>
                  <a:srgbClr val="000000"/>
                </a:solidFill>
                <a:latin typeface="Times New Roman"/>
                <a:ea typeface="Times New Roman"/>
              </a:rPr>
              <a:t> Building up all of the water that runs through the lake proves that energy can be stored until usage is necessary to produce electricity.</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7.</a:t>
            </a:r>
            <a:r>
              <a:rPr b="0" lang="en-US" sz="2400" spc="-1" strike="noStrike">
                <a:solidFill>
                  <a:srgbClr val="000000"/>
                </a:solidFill>
                <a:latin typeface="Times New Roman"/>
                <a:ea typeface="Times New Roman"/>
              </a:rPr>
              <a:t> These dams do not produce pollution or add to greenhouse gases.</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 </a:t>
            </a:r>
            <a:r>
              <a:rPr b="0" lang="en-US" sz="2400" spc="-1" strike="noStrike">
                <a:solidFill>
                  <a:srgbClr val="000000"/>
                </a:solidFill>
                <a:latin typeface="Times New Roman"/>
                <a:ea typeface="Times New Roman"/>
              </a:rPr>
              <a:t>After the completion of the building the dam the  cost of electricity is virtually free</a:t>
            </a: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rPr>
              <a:t>Disadvantages</a:t>
            </a:r>
            <a:endParaRPr b="0" lang="en-US" sz="4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cause of the vast size of these dams they can be very expensive to make and they also need to be made at a very high standard</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ce the dam is built it needs to be operated for many years before it can become profitable because of how costly it is be make in the first place.</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flooding occurs it can ruin the natural environment surrounding it.</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ople who live around dams are sometimes forced to move in order to build these hydroelectric dams causing them to lose their houses, farms, etc.</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vast size of these dams can cause geological damaged. i.e. depression of land, earthquakes, etc.</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ith the improvement of dams it is uncommon to see them breach but in the past the breaking of dams under the pressure of the water can cause flooding and deaths.</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ile the dam is blocking the water in one country it can destruct the flow of water in another country leaving the supply of water out of their hands.  This problem can cause some turmoil between neighboring countries.</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ter productivity downstream can be altered which can impact the lives of plants and animals that rely on that water supply.</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can be difficult to find an appropriate place to build a dam.</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sibilities</a:t>
            </a: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uture of hydroelectric power will be greatly affected by humans and the environment.  The main problem with building for hydroelectric power is that people have to be moved from their land in order to make dams.  Also, the flooding of these dams will affect the environment surrounding it.  Because of these problems people have been protesting the making of dams and their thoughts need to be put into consideration.  The power contained by hydroelectric power plants has increased 18% from 1995 to 2005.  Along with the increase in power being produced the price of  cement, coal, and iron has increased making the cost to build dams even higher.  Power plants will still be used for producing electricity but it is unlikely for the world to since a large increase in the amount of power plants being made.</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2" name="Text Box 13"/>
          <p:cNvSpPr/>
          <p:nvPr/>
        </p:nvSpPr>
        <p:spPr>
          <a:xfrm>
            <a:off x="38433240" y="7256520"/>
            <a:ext cx="10512720" cy="98218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rPr>
              <a:t>Costs</a:t>
            </a:r>
            <a:endParaRPr b="0" lang="en-US" sz="4400" spc="-1" strike="noStrike">
              <a:solidFill>
                <a:srgbClr val="000000"/>
              </a:solidFill>
              <a:latin typeface="Arial"/>
            </a:endParaRPr>
          </a:p>
          <a:p>
            <a:pPr>
              <a:lnSpc>
                <a:spcPct val="100000"/>
              </a:lnSpc>
              <a:spcBef>
                <a:spcPts val="15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dropower is the most efficient way to generate electricity. Modern turbines can convert as much as 90% of the available energy into electricity. Fossil fuel plants are only about 50% efficient. In the U.S., hydropower is produced for an average of 0.85 cents per kilowatt-hour. This is about 50% the cost of nuclear, 40% the cost of fossil fuel, and 25% the cost of using natural gas. Hydropower does not experience rising or unstable fuel costs. Only 2,400 of the nation's 80,000 existing dams are used to generate power. Installing turbines in existing dams presents a promising and cost-effective power source. However, in the last 10 years the Department of Energy has spent $1.2 billion on research and development for other renewable sources like wind, solar, and geothermal, but only $10 million on hydropower</a:t>
            </a:r>
            <a:endParaRPr b="0" lang="en-US" sz="2400" spc="-1" strike="noStrike">
              <a:solidFill>
                <a:srgbClr val="000000"/>
              </a:solidFill>
              <a:latin typeface="Arial"/>
            </a:endParaRPr>
          </a:p>
          <a:p>
            <a:pPr>
              <a:lnSpc>
                <a:spcPct val="100000"/>
              </a:lnSpc>
              <a:spcBef>
                <a:spcPts val="15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Text Box 14"/>
          <p:cNvSpPr/>
          <p:nvPr/>
        </p:nvSpPr>
        <p:spPr>
          <a:xfrm>
            <a:off x="1744560" y="4127400"/>
            <a:ext cx="47701440" cy="2377800"/>
          </a:xfrm>
          <a:prstGeom prst="rect">
            <a:avLst/>
          </a:prstGeom>
          <a:solidFill>
            <a:srgbClr val="0070c0"/>
          </a:solid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llan Parrelli and Stephen Ratacik</a:t>
            </a:r>
            <a:br>
              <a:rPr sz="6000"/>
            </a:br>
            <a:endParaRPr b="0" lang="en-US" sz="6000" spc="-1" strike="noStrike">
              <a:solidFill>
                <a:srgbClr val="000000"/>
              </a:solidFill>
              <a:latin typeface="Arial"/>
            </a:endParaRPr>
          </a:p>
        </p:txBody>
      </p:sp>
      <p:sp>
        <p:nvSpPr>
          <p:cNvPr id="54" name="Text Box 15"/>
          <p:cNvSpPr/>
          <p:nvPr/>
        </p:nvSpPr>
        <p:spPr>
          <a:xfrm>
            <a:off x="38433240" y="18126000"/>
            <a:ext cx="10512720" cy="137811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marL="500040" indent="-50004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rPr>
              <a:t>Bibliography</a:t>
            </a:r>
            <a:endParaRPr b="0" lang="en-US" sz="4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http://www.technologystudent.com/energy1/hydr2.htm (accessed March 30, 2010).</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website was extremely informational and useful. It was primarily used for finding the advantages and disadvantages of our power source.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Category. "Lester Allan Pelton - Hydroelectric Power." Inventors.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vantages and Disadvantages of Hydropower." A Design and Technology Site. http://inventors.about.com/library/inventors/bl_lester_pelton.htm (accessed March 30, 2010).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website was used for finding the story of how hydroelectric power was founded. This gave a clear understanding of the history of such a revolutionary invention.</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Energy Resources: Hydroelectric power." Andy Darvill's Science site: Home.       http://www.darvill.clara.net/altenerg/hydro.htm (accessed March 30, 2010).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website was used primarily for background information and to summarize how the source works and some disadvantages and advantages.</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4. "Future of Hydroelectric Power Plants. Factors Affecting the Growth of Hydroelectricity." Find Health, Education, Science &amp; Technology Articles, Reviews, How-To and Tech Tips At Bright Hub - Apply To Be A Writer Today!. http://www.brighthub.com/engineering/mechanical/articles/9017.aspx (accessed March 30, 2010).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We used this website to research some of the possibilies of this power source and the future uses of it around the world.</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5. "Hydroelectric Power: How it works, USGS Water Science for Schools." USGS Georgia Water Science Center. http://ga.water.usgs.gov/edu/hyhowworks.html (accessed March 30, 2010).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his website was used to show the process of how the water enters the dam and flows toward the turbine to produce power.</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6. http://new.wvic.com/index.php?option=com_content&amp;task=view&amp;id=7&amp;Itemid=44 (accessed March 30, 2010).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website was used to find how the power source is used around the world and what countries rely on it the most as well as how efficient it is.</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Text Box 23"/>
          <p:cNvSpPr/>
          <p:nvPr/>
        </p:nvSpPr>
        <p:spPr>
          <a:xfrm>
            <a:off x="7197840" y="15743160"/>
            <a:ext cx="4800600" cy="140292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1.</a:t>
            </a:r>
            <a:r>
              <a:rPr b="0" lang="en-US" sz="2000" spc="-1" strike="noStrike">
                <a:solidFill>
                  <a:srgbClr val="000000"/>
                </a:solidFill>
                <a:latin typeface="Arial"/>
              </a:rPr>
              <a:t> Pelton’s wheel had a double cup with a wedge-shaped divider in the middle, splitting the jet--half to the left, half to the right.</a:t>
            </a:r>
            <a:endParaRPr b="0" lang="en-US" sz="2000" spc="-1" strike="noStrike">
              <a:solidFill>
                <a:srgbClr val="000000"/>
              </a:solidFill>
              <a:latin typeface="Arial"/>
            </a:endParaRPr>
          </a:p>
        </p:txBody>
      </p:sp>
      <p:sp>
        <p:nvSpPr>
          <p:cNvPr id="56" name="Text Box 33"/>
          <p:cNvSpPr/>
          <p:nvPr/>
        </p:nvSpPr>
        <p:spPr>
          <a:xfrm>
            <a:off x="3044880" y="29562480"/>
            <a:ext cx="7740720" cy="140292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2</a:t>
            </a:r>
            <a:r>
              <a:rPr b="0" lang="en-US" sz="2000" spc="-1" strike="noStrike">
                <a:solidFill>
                  <a:srgbClr val="000000"/>
                </a:solidFill>
                <a:latin typeface="Arial"/>
              </a:rPr>
              <a:t>. The picture on the left demonstrates the parts of a hydroelectric dam and what their uses are. On the right it shows how the power is made by the water flowing through the propellers driving the shaft into the generator.</a:t>
            </a:r>
            <a:endParaRPr b="0" lang="en-US" sz="2000" spc="-1" strike="noStrike">
              <a:solidFill>
                <a:srgbClr val="000000"/>
              </a:solidFill>
              <a:latin typeface="Arial"/>
            </a:endParaRPr>
          </a:p>
        </p:txBody>
      </p:sp>
      <p:sp>
        <p:nvSpPr>
          <p:cNvPr id="57" name="Text Box 114"/>
          <p:cNvSpPr/>
          <p:nvPr/>
        </p:nvSpPr>
        <p:spPr>
          <a:xfrm>
            <a:off x="26347680" y="7259760"/>
            <a:ext cx="10512360" cy="2419488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8" name="Rectangle 59"/>
          <p:cNvSpPr/>
          <p:nvPr/>
        </p:nvSpPr>
        <p:spPr>
          <a:xfrm>
            <a:off x="27236880" y="12330000"/>
            <a:ext cx="8607240" cy="109800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4. </a:t>
            </a:r>
            <a:r>
              <a:rPr b="0" lang="en-US" sz="2000" spc="-1" strike="noStrike">
                <a:solidFill>
                  <a:srgbClr val="000000"/>
                </a:solidFill>
                <a:latin typeface="Arial"/>
              </a:rPr>
              <a:t>The pie chart shows the break up of how the United States generates its electricity. It shows coal produces the majority. Hydroelectric produces only 9.8% of the U.S. electricity.</a:t>
            </a:r>
            <a:endParaRPr b="0" lang="en-US" sz="2000" spc="-1" strike="noStrike">
              <a:solidFill>
                <a:srgbClr val="000000"/>
              </a:solidFill>
              <a:latin typeface="Arial"/>
            </a:endParaRPr>
          </a:p>
        </p:txBody>
      </p:sp>
      <p:sp>
        <p:nvSpPr>
          <p:cNvPr id="59" name="Rectangle 67"/>
          <p:cNvSpPr/>
          <p:nvPr/>
        </p:nvSpPr>
        <p:spPr>
          <a:xfrm>
            <a:off x="27365400" y="27619200"/>
            <a:ext cx="9021600" cy="186084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5.  </a:t>
            </a:r>
            <a:r>
              <a:rPr b="0" lang="en-US" sz="2000" spc="-1" strike="noStrike">
                <a:solidFill>
                  <a:srgbClr val="000000"/>
                </a:solidFill>
                <a:latin typeface="Arial"/>
              </a:rPr>
              <a:t>The bar graph above shows the top hydroelectric producing countries in the world  based on how many billions of kilowatts per hour are used.</a:t>
            </a:r>
            <a:endParaRPr b="0" lang="en-US" sz="2000" spc="-1" strike="noStrike">
              <a:solidFill>
                <a:srgbClr val="000000"/>
              </a:solidFill>
              <a:latin typeface="Arial"/>
            </a:endParaRPr>
          </a:p>
        </p:txBody>
      </p:sp>
      <p:sp>
        <p:nvSpPr>
          <p:cNvPr id="60" name="Text Box 117"/>
          <p:cNvSpPr/>
          <p:nvPr/>
        </p:nvSpPr>
        <p:spPr>
          <a:xfrm>
            <a:off x="27393840" y="15003360"/>
            <a:ext cx="8305920" cy="55954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ea typeface="Arial"/>
              </a:rPr>
              <a:t>World Wide Scales</a:t>
            </a:r>
            <a:endParaRPr b="0" lang="en-US" sz="4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wide, about 20% of all electricity is generated by hydropower. About 10% of the United States’ electricity is provided by hydropower. Canada is the worlds largest producer of hydropower, the United States is the second largest. Norway and New Zealand use hydropower for its electricity the most. Hydropower produces 99% of Norway’s electricity and 75% of New Zealand’s. There is enough hydropower in the United States to provide electricity to 28 million residents. This is equivalent to all the homes in Wisconsin, Michigan, Minnesota, Indiana, Iowa, Ohio, Missouri, Nebraska, Kansas, North and South Dakota, Kentucky, and Tennessee. Wisconsin generates 4.4% of the electricity, 4.1% of that is produced by hydropower.</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1" name="Rectangle 180"/>
          <p:cNvSpPr/>
          <p:nvPr/>
        </p:nvSpPr>
        <p:spPr>
          <a:xfrm>
            <a:off x="20534760" y="1938240"/>
            <a:ext cx="10405080" cy="131292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Hydroelectric Energy</a:t>
            </a:r>
            <a:endParaRPr b="0" lang="en-US" sz="8000" spc="-1" strike="noStrike">
              <a:solidFill>
                <a:srgbClr val="000000"/>
              </a:solidFill>
              <a:latin typeface="Arial"/>
            </a:endParaRPr>
          </a:p>
        </p:txBody>
      </p:sp>
      <p:pic>
        <p:nvPicPr>
          <p:cNvPr id="62" name="Picture 70" descr=" Pelton water turbine"/>
          <p:cNvPicPr/>
          <p:nvPr/>
        </p:nvPicPr>
        <p:blipFill>
          <a:blip r:embed="rId1"/>
          <a:srcRect l="0" t="0" r="-2889" b="39178"/>
          <a:stretch/>
        </p:blipFill>
        <p:spPr>
          <a:xfrm>
            <a:off x="3003480" y="15046200"/>
            <a:ext cx="3784680" cy="2635200"/>
          </a:xfrm>
          <a:prstGeom prst="rect">
            <a:avLst/>
          </a:prstGeom>
          <a:ln w="0">
            <a:noFill/>
          </a:ln>
        </p:spPr>
      </p:pic>
      <p:pic>
        <p:nvPicPr>
          <p:cNvPr id="63" name="Picture 72" descr="Drawing of a turbine, which the water turns. "/>
          <p:cNvPicPr/>
          <p:nvPr/>
        </p:nvPicPr>
        <p:blipFill>
          <a:blip r:embed="rId2"/>
          <a:stretch/>
        </p:blipFill>
        <p:spPr>
          <a:xfrm>
            <a:off x="8858160" y="25480800"/>
            <a:ext cx="3402000" cy="3546720"/>
          </a:xfrm>
          <a:prstGeom prst="rect">
            <a:avLst/>
          </a:prstGeom>
          <a:ln w="0">
            <a:noFill/>
          </a:ln>
        </p:spPr>
      </p:pic>
      <p:pic>
        <p:nvPicPr>
          <p:cNvPr id="64" name="Picture 74" descr="Animation of a hydroelectric power plant in a dam"/>
          <p:cNvPicPr/>
          <p:nvPr/>
        </p:nvPicPr>
        <p:blipFill>
          <a:blip r:embed="rId3"/>
          <a:stretch/>
        </p:blipFill>
        <p:spPr>
          <a:xfrm>
            <a:off x="2395440" y="25470000"/>
            <a:ext cx="6193080" cy="3697200"/>
          </a:xfrm>
          <a:prstGeom prst="rect">
            <a:avLst/>
          </a:prstGeom>
          <a:ln w="0">
            <a:noFill/>
          </a:ln>
        </p:spPr>
      </p:pic>
      <p:pic>
        <p:nvPicPr>
          <p:cNvPr id="65" name="Picture 72" descr="utility-net-generation1.gif"/>
          <p:cNvPicPr/>
          <p:nvPr/>
        </p:nvPicPr>
        <p:blipFill>
          <a:blip r:embed="rId4"/>
          <a:stretch/>
        </p:blipFill>
        <p:spPr>
          <a:xfrm>
            <a:off x="28079640" y="8153280"/>
            <a:ext cx="6743880" cy="3527640"/>
          </a:xfrm>
          <a:prstGeom prst="rect">
            <a:avLst/>
          </a:prstGeom>
          <a:ln w="0">
            <a:noFill/>
          </a:ln>
        </p:spPr>
      </p:pic>
      <p:pic>
        <p:nvPicPr>
          <p:cNvPr id="66" name="Picture 73" descr="tophydrocountries1.gif"/>
          <p:cNvPicPr/>
          <p:nvPr/>
        </p:nvPicPr>
        <p:blipFill>
          <a:blip r:embed="rId5"/>
          <a:stretch/>
        </p:blipFill>
        <p:spPr>
          <a:xfrm>
            <a:off x="27358920" y="22487040"/>
            <a:ext cx="8447040" cy="4087800"/>
          </a:xfrm>
          <a:prstGeom prst="rect">
            <a:avLst/>
          </a:prstGeom>
          <a:ln w="0">
            <a:noFill/>
          </a:ln>
        </p:spPr>
      </p:pic>
      <p:pic>
        <p:nvPicPr>
          <p:cNvPr id="67" name="Picture 74" descr="hydro-1.gif"/>
          <p:cNvPicPr/>
          <p:nvPr/>
        </p:nvPicPr>
        <p:blipFill>
          <a:blip r:embed="rId6"/>
          <a:stretch/>
        </p:blipFill>
        <p:spPr>
          <a:xfrm>
            <a:off x="41124240" y="13227120"/>
            <a:ext cx="5584680" cy="3009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Lisa</cp:lastModifiedBy>
  <cp:lastPrinted>2010-02-25T14:58:49Z</cp:lastPrinted>
  <dcterms:modified xsi:type="dcterms:W3CDTF">2010-03-31T01:02:13Z</dcterms:modified>
  <cp:revision>466</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