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CE88-ACC4-4827-81C6-C43CD647957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6B14-406A-47C6-B904-95710DD8B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23880" y="3840120"/>
            <a:ext cx="29870640" cy="19202400"/>
          </a:xfrm>
          <a:prstGeom prst="rect">
            <a:avLst/>
          </a:prstGeom>
          <a:ln w="0">
            <a:noFill/>
          </a:ln>
        </p:spPr>
      </p:sp>
      <p:sp>
        <p:nvSpPr>
          <p:cNvPr id="9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9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D51D-372D-4F8F-921E-49195EB38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45AA4-A1F6-4197-B970-43FAFAE4E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AF656-B055-466D-B076-6706870F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2E5D7-985A-4C89-AB70-6115C1353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2F1E2-745A-4F37-A948-89D93959D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D52BB-90F7-41D5-A8D3-E00FB062F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4043-B50F-43B2-A78A-F940C505B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56438-182B-48C7-A2E9-1FA45A821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A366B-D1CC-4CB0-9970-7BA127A3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1DE06-EB89-4021-A73E-466AC3FC5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A754-4B0F-455E-B64B-2AF07608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C8DD-3115-48FE-B2FA-106A25609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2C59-6313-4C78-96BF-9F2D78A0B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29D7-489F-42B4-AEFF-4BC2C1E5ACF0}"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339920"/>
            <a:ext cx="49528440" cy="31367520"/>
          </a:xfrm>
          <a:prstGeom prst="rect">
            <a:avLst/>
          </a:prstGeom>
          <a:solidFill>
            <a:srgbClr val="fae2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6675480"/>
            <a:ext cx="10512360" cy="9180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1"/>
          <p:cNvSpPr/>
          <p:nvPr/>
        </p:nvSpPr>
        <p:spPr>
          <a:xfrm>
            <a:off x="2104920" y="16278120"/>
            <a:ext cx="10512360" cy="457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Text Box 16"/>
          <p:cNvSpPr/>
          <p:nvPr/>
        </p:nvSpPr>
        <p:spPr>
          <a:xfrm>
            <a:off x="26463600" y="6699240"/>
            <a:ext cx="10512360" cy="9502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 Box 12"/>
          <p:cNvSpPr/>
          <p:nvPr/>
        </p:nvSpPr>
        <p:spPr>
          <a:xfrm>
            <a:off x="13906440" y="6654960"/>
            <a:ext cx="11239560" cy="24825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Text Box 13"/>
          <p:cNvSpPr/>
          <p:nvPr/>
        </p:nvSpPr>
        <p:spPr>
          <a:xfrm>
            <a:off x="38433240" y="6756480"/>
            <a:ext cx="11060280" cy="10023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Text Box 14"/>
          <p:cNvSpPr/>
          <p:nvPr/>
        </p:nvSpPr>
        <p:spPr>
          <a:xfrm>
            <a:off x="1744560" y="408312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elsey Colvin</a:t>
            </a:r>
            <a:endParaRPr b="0" lang="en-US" sz="6000" spc="-1" strike="noStrike">
              <a:solidFill>
                <a:srgbClr val="000000"/>
              </a:solidFill>
              <a:latin typeface="Arial"/>
            </a:endParaRPr>
          </a:p>
        </p:txBody>
      </p:sp>
      <p:sp>
        <p:nvSpPr>
          <p:cNvPr id="55" name="Text Box 70"/>
          <p:cNvSpPr/>
          <p:nvPr/>
        </p:nvSpPr>
        <p:spPr>
          <a:xfrm>
            <a:off x="38433240" y="17837280"/>
            <a:ext cx="11022120" cy="138938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180"/>
          <p:cNvSpPr/>
          <p:nvPr/>
        </p:nvSpPr>
        <p:spPr>
          <a:xfrm>
            <a:off x="19854360" y="2246400"/>
            <a:ext cx="117662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Geothermal Energy </a:t>
            </a:r>
            <a:endParaRPr b="0" lang="en-US" sz="9600" spc="-1" strike="noStrike">
              <a:solidFill>
                <a:srgbClr val="000000"/>
              </a:solidFill>
              <a:latin typeface="Arial"/>
            </a:endParaRPr>
          </a:p>
        </p:txBody>
      </p:sp>
      <p:sp>
        <p:nvSpPr>
          <p:cNvPr id="57" name="TextBox 69"/>
          <p:cNvSpPr/>
          <p:nvPr/>
        </p:nvSpPr>
        <p:spPr>
          <a:xfrm>
            <a:off x="2463840" y="7004160"/>
            <a:ext cx="962640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What is Geothermal Energ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is a renewable source of energy that barely does any damage to the environment. It comes from the heat within the earth that is constantly created because of the slow decay of radioactive particles that occurs in rocks every day.  The hottest geothermal regions can be found near plate boundaries where earthquakes and volcanoes centralize. Majority of the world’s geothermal activity happens in the area that is ear the Pacific Ocean that is known as the Ring of Fire. Geothermal energy is use through out the world to heat buildings and to produce electric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TextBox 70"/>
          <p:cNvSpPr/>
          <p:nvPr/>
        </p:nvSpPr>
        <p:spPr>
          <a:xfrm>
            <a:off x="2320920" y="16376760"/>
            <a:ext cx="9725040" cy="44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How is Geothermal Energy us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different strategies that geologists use while searching for geothermal reservoirs.  They study aerial photographs and geological maps, analyze the chemistry of local water sources and the concentration of metals in the soil, and they measure variations in gravity and magnetic fields.  Though all these methods help lead them to geothermal reservoirs the only way to be sure they have found one is by drilling an exploratory well.  Once they have found the reservoir then they drill a production well.   Next, turbines that are turned by 250-700 degree Fahrenheit hot water and steam generate electric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2"/>
          <p:cNvSpPr/>
          <p:nvPr/>
        </p:nvSpPr>
        <p:spPr>
          <a:xfrm>
            <a:off x="2114640" y="21309120"/>
            <a:ext cx="10540800" cy="10209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
          <p:cNvSpPr/>
          <p:nvPr/>
        </p:nvSpPr>
        <p:spPr>
          <a:xfrm>
            <a:off x="26470080" y="16625880"/>
            <a:ext cx="10512360" cy="430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2"/>
          <p:cNvSpPr/>
          <p:nvPr/>
        </p:nvSpPr>
        <p:spPr>
          <a:xfrm>
            <a:off x="26478000" y="21340800"/>
            <a:ext cx="10512360" cy="10177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75"/>
          <p:cNvSpPr/>
          <p:nvPr/>
        </p:nvSpPr>
        <p:spPr>
          <a:xfrm>
            <a:off x="26760600" y="21518640"/>
            <a:ext cx="101091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Cos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systems are more expensive to install than conventional heating and cooling systems but they are economically friendly in the sense that they save you money in the long run.  They can reduce heating costs by 50-70 percent and cooling costs by 20-40 percent.   Geothermal systems need little maintenance and can last twice as long as conventional systems. On average a homeowner can save about $20,000 over the life of a system.  Geothermal energy is economically efficient because no fuel is used to produce the ener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76"/>
          <p:cNvSpPr/>
          <p:nvPr/>
        </p:nvSpPr>
        <p:spPr>
          <a:xfrm>
            <a:off x="26858880" y="6991200"/>
            <a:ext cx="993132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enefi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advantage of using geothermal energy is it is renewable energy and it does little damage to the environment and does not polute the aire. Also, the geothermal power plants’ emission levels are very low because they do not burn fuel to generate electricity.  Next, they are convenient because the government allows development on federal lands because the power plants do not cause harm to the environment.  Since geothermal energy does not need fuel to produce electricity it avoids importing from other countries and therefore benefits local commun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TextBox 77"/>
          <p:cNvSpPr/>
          <p:nvPr/>
        </p:nvSpPr>
        <p:spPr>
          <a:xfrm>
            <a:off x="26822520" y="16792560"/>
            <a:ext cx="96249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sadvantag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geothermal energy is advantageous it also has some disadvantages.  Geothermal steam and hot water contain traces of hydrogen sulfide and other gases and chemicals that could be harmful in large quantities.  Since geothermal steam and hot water only contain small traces of these materials it is not very damaging to the environment.  One last disadvantage is that very rarely a working plant may randomly stop producing steam and this stall in productivity can last up to ten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78"/>
          <p:cNvSpPr/>
          <p:nvPr/>
        </p:nvSpPr>
        <p:spPr>
          <a:xfrm>
            <a:off x="38963520" y="7018200"/>
            <a:ext cx="9568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Possibiliti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edicted that improvements in technology will make it easier to use geothermal resource, bring the cost down and increase the number of geothermal reserves.</a:t>
            </a:r>
            <a:endParaRPr b="0" lang="en-US" sz="2400" spc="-1" strike="noStrike">
              <a:solidFill>
                <a:srgbClr val="000000"/>
              </a:solidFill>
              <a:latin typeface="Arial"/>
            </a:endParaRPr>
          </a:p>
        </p:txBody>
      </p:sp>
      <p:sp>
        <p:nvSpPr>
          <p:cNvPr id="66" name="TextBox 79"/>
          <p:cNvSpPr/>
          <p:nvPr/>
        </p:nvSpPr>
        <p:spPr>
          <a:xfrm>
            <a:off x="14300280" y="6891480"/>
            <a:ext cx="10845720" cy="1033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fferent Types Of Geothermal Power Plan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Flashed Steam Plants </a:t>
            </a:r>
            <a:r>
              <a:rPr b="0" lang="en-US" sz="2400" spc="-1" strike="noStrike">
                <a:solidFill>
                  <a:srgbClr val="000000"/>
                </a:solidFill>
                <a:latin typeface="Arial"/>
              </a:rPr>
              <a:t>are the most commonly used of the power plants. They function when the hot water from the production wells “flash” or boil violently and create steam that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Dry Steam Plants </a:t>
            </a:r>
            <a:r>
              <a:rPr b="0" lang="en-US" sz="2400" spc="-1" strike="noStrike">
                <a:solidFill>
                  <a:srgbClr val="000000"/>
                </a:solidFill>
                <a:latin typeface="Arial"/>
              </a:rPr>
              <a:t>are located in the geothermal reservoirs that produce mostly steam and very little water.  The steam that comes from the reservoir goes directly thought a rock catcher and into the turbine gen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Power Plants </a:t>
            </a:r>
            <a:r>
              <a:rPr b="0" lang="en-US" sz="2400" spc="-1" strike="noStrike">
                <a:solidFill>
                  <a:srgbClr val="000000"/>
                </a:solidFill>
                <a:latin typeface="Arial"/>
              </a:rPr>
              <a:t>produce electricity by transferring the heat from geothermal hot water into other liquids.  The fluid that the heat is transformed into is then boiled and its vapor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Hybrid Power Plants </a:t>
            </a:r>
            <a:r>
              <a:rPr b="0" lang="en-US" sz="2400" spc="-1" strike="noStrike">
                <a:solidFill>
                  <a:srgbClr val="000000"/>
                </a:solidFill>
                <a:latin typeface="Arial"/>
              </a:rPr>
              <a:t>are a combination of flash and binary power plants.  In Hybrid plants both heat and steam are util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GeoExchange Systems </a:t>
            </a:r>
            <a:r>
              <a:rPr b="0" lang="en-US" sz="2400" spc="-1" strike="noStrike">
                <a:solidFill>
                  <a:srgbClr val="000000"/>
                </a:solidFill>
                <a:latin typeface="Arial"/>
              </a:rPr>
              <a:t>utilize the Earth’s constant temperature that lies about twenty feet below the surface to heat and cool buildings.  Heat pumps remove heat from a heat exchanger and pump it into an indoor air delivery system to heat the building.  To cool the building the reverse action is taken and heat is taken out of the indoor air that can be saved and used to heat w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80" descr=""/>
          <p:cNvPicPr/>
          <p:nvPr/>
        </p:nvPicPr>
        <p:blipFill>
          <a:blip r:embed="rId1"/>
          <a:stretch/>
        </p:blipFill>
        <p:spPr>
          <a:xfrm>
            <a:off x="14338440" y="16124400"/>
            <a:ext cx="5549760" cy="4305240"/>
          </a:xfrm>
          <a:prstGeom prst="rect">
            <a:avLst/>
          </a:prstGeom>
          <a:ln w="0">
            <a:noFill/>
          </a:ln>
        </p:spPr>
      </p:pic>
      <p:pic>
        <p:nvPicPr>
          <p:cNvPr id="68" name="Picture 81" descr=""/>
          <p:cNvPicPr/>
          <p:nvPr/>
        </p:nvPicPr>
        <p:blipFill>
          <a:blip r:embed="rId2"/>
          <a:stretch/>
        </p:blipFill>
        <p:spPr>
          <a:xfrm>
            <a:off x="2743200" y="11482560"/>
            <a:ext cx="5022720" cy="3962160"/>
          </a:xfrm>
          <a:prstGeom prst="rect">
            <a:avLst/>
          </a:prstGeom>
          <a:ln w="0">
            <a:noFill/>
          </a:ln>
        </p:spPr>
      </p:pic>
      <p:pic>
        <p:nvPicPr>
          <p:cNvPr id="69" name="Picture 82" descr=""/>
          <p:cNvPicPr/>
          <p:nvPr/>
        </p:nvPicPr>
        <p:blipFill>
          <a:blip r:embed="rId3"/>
          <a:stretch/>
        </p:blipFill>
        <p:spPr>
          <a:xfrm>
            <a:off x="14287680" y="26438400"/>
            <a:ext cx="5702040" cy="4424040"/>
          </a:xfrm>
          <a:prstGeom prst="rect">
            <a:avLst/>
          </a:prstGeom>
          <a:ln w="0">
            <a:noFill/>
          </a:ln>
        </p:spPr>
      </p:pic>
      <p:pic>
        <p:nvPicPr>
          <p:cNvPr id="70" name="Picture 83" descr=""/>
          <p:cNvPicPr/>
          <p:nvPr/>
        </p:nvPicPr>
        <p:blipFill>
          <a:blip r:embed="rId4"/>
          <a:stretch/>
        </p:blipFill>
        <p:spPr>
          <a:xfrm>
            <a:off x="14312880" y="21221640"/>
            <a:ext cx="5626080" cy="4381560"/>
          </a:xfrm>
          <a:prstGeom prst="rect">
            <a:avLst/>
          </a:prstGeom>
          <a:ln w="0">
            <a:noFill/>
          </a:ln>
        </p:spPr>
      </p:pic>
      <p:sp>
        <p:nvSpPr>
          <p:cNvPr id="71" name="TextBox 85"/>
          <p:cNvSpPr/>
          <p:nvPr/>
        </p:nvSpPr>
        <p:spPr>
          <a:xfrm>
            <a:off x="8420040" y="1380960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map showing where the Ring of Fire, the worlds most geothermal activity happens here.</a:t>
            </a:r>
            <a:endParaRPr b="0" lang="en-US" sz="2400" spc="-1" strike="noStrike">
              <a:solidFill>
                <a:srgbClr val="000000"/>
              </a:solidFill>
              <a:latin typeface="Arial"/>
            </a:endParaRPr>
          </a:p>
        </p:txBody>
      </p:sp>
      <p:sp>
        <p:nvSpPr>
          <p:cNvPr id="72" name="Straight Connector 86"/>
          <p:cNvSpPr/>
          <p:nvPr/>
        </p:nvSpPr>
        <p:spPr>
          <a:xfrm flipH="1" flipV="1">
            <a:off x="7797960" y="13223520"/>
            <a:ext cx="1746000" cy="55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3" name="TextBox 94"/>
          <p:cNvSpPr/>
          <p:nvPr/>
        </p:nvSpPr>
        <p:spPr>
          <a:xfrm>
            <a:off x="2347920" y="21435840"/>
            <a:ext cx="10275840" cy="740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Scal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if geothermal energy is growing larger because of its vast advantages and slim disadvantages.  Geothermal heat exchange systems are an efficient and economical alternative to conventional heating and cooling systems.  In the United States more than 300,000 homes and buildings use geothermal heat exchange.  Geothermal energy compromises four percent of the total U.S. domestic energy reserves.  “In our world today there are 250 geothermal power plants in 21 countries, supplying 8,200 megawatts of electricity to 15 million people.  Direct uses of geothermal reservoirs amount to over 11,00 megawatts of thermal energy in 35 counties.  And an additional 40 countries use hot springs and spas but have not yet commercially developed their geothermal reservoirs.” Taken from (http://www.learnaboutenergy.org/focus/part10.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95" descr=""/>
          <p:cNvPicPr/>
          <p:nvPr/>
        </p:nvPicPr>
        <p:blipFill>
          <a:blip r:embed="rId5"/>
          <a:stretch/>
        </p:blipFill>
        <p:spPr>
          <a:xfrm>
            <a:off x="4541760" y="27057240"/>
            <a:ext cx="6540480" cy="4152960"/>
          </a:xfrm>
          <a:prstGeom prst="rect">
            <a:avLst/>
          </a:prstGeom>
          <a:ln w="0">
            <a:noFill/>
          </a:ln>
        </p:spPr>
      </p:pic>
      <p:sp>
        <p:nvSpPr>
          <p:cNvPr id="75" name="TextBox 97"/>
          <p:cNvSpPr/>
          <p:nvPr/>
        </p:nvSpPr>
        <p:spPr>
          <a:xfrm>
            <a:off x="20658240" y="1738620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Flash Steam Power Plant may look like.</a:t>
            </a:r>
            <a:endParaRPr b="0" lang="en-US" sz="2400" spc="-1" strike="noStrike">
              <a:solidFill>
                <a:srgbClr val="000000"/>
              </a:solidFill>
              <a:latin typeface="Arial"/>
            </a:endParaRPr>
          </a:p>
        </p:txBody>
      </p:sp>
      <p:sp>
        <p:nvSpPr>
          <p:cNvPr id="76" name="TextBox 98"/>
          <p:cNvSpPr/>
          <p:nvPr/>
        </p:nvSpPr>
        <p:spPr>
          <a:xfrm>
            <a:off x="20658240" y="2785428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Binary Cycle Power Plant may look like.</a:t>
            </a:r>
            <a:endParaRPr b="0" lang="en-US" sz="2400" spc="-1" strike="noStrike">
              <a:solidFill>
                <a:srgbClr val="000000"/>
              </a:solidFill>
              <a:latin typeface="Arial"/>
            </a:endParaRPr>
          </a:p>
        </p:txBody>
      </p:sp>
      <p:sp>
        <p:nvSpPr>
          <p:cNvPr id="77" name="TextBox 99"/>
          <p:cNvSpPr/>
          <p:nvPr/>
        </p:nvSpPr>
        <p:spPr>
          <a:xfrm>
            <a:off x="20656440" y="22542480"/>
            <a:ext cx="391176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Dry Steam Power Plant may look like.</a:t>
            </a:r>
            <a:endParaRPr b="0" lang="en-US" sz="2400" spc="-1" strike="noStrike">
              <a:solidFill>
                <a:srgbClr val="000000"/>
              </a:solidFill>
              <a:latin typeface="Arial"/>
            </a:endParaRPr>
          </a:p>
        </p:txBody>
      </p:sp>
      <p:sp>
        <p:nvSpPr>
          <p:cNvPr id="78" name="Straight Connector 102"/>
          <p:cNvSpPr/>
          <p:nvPr/>
        </p:nvSpPr>
        <p:spPr>
          <a:xfrm flipH="1" flipV="1">
            <a:off x="19819800" y="16740360"/>
            <a:ext cx="1347840" cy="61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9" name="Straight Connector 110"/>
          <p:cNvSpPr/>
          <p:nvPr/>
        </p:nvSpPr>
        <p:spPr>
          <a:xfrm flipH="1" flipV="1">
            <a:off x="19972440" y="2185632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0" name="Straight Connector 111"/>
          <p:cNvSpPr/>
          <p:nvPr/>
        </p:nvSpPr>
        <p:spPr>
          <a:xfrm flipH="1" flipV="1">
            <a:off x="19972440" y="2720628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1" name="Picture 112" descr=""/>
          <p:cNvPicPr/>
          <p:nvPr/>
        </p:nvPicPr>
        <p:blipFill>
          <a:blip r:embed="rId6"/>
          <a:stretch/>
        </p:blipFill>
        <p:spPr>
          <a:xfrm>
            <a:off x="27254160" y="11256840"/>
            <a:ext cx="3362400" cy="4483080"/>
          </a:xfrm>
          <a:prstGeom prst="rect">
            <a:avLst/>
          </a:prstGeom>
          <a:ln w="0">
            <a:noFill/>
          </a:ln>
        </p:spPr>
      </p:pic>
      <p:sp>
        <p:nvSpPr>
          <p:cNvPr id="82" name="TextBox 113"/>
          <p:cNvSpPr/>
          <p:nvPr/>
        </p:nvSpPr>
        <p:spPr>
          <a:xfrm>
            <a:off x="32664240" y="1280484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yser is one of the most commonly used resources to collect geothermal energy.</a:t>
            </a:r>
            <a:endParaRPr b="0" lang="en-US" sz="2400" spc="-1" strike="noStrike">
              <a:solidFill>
                <a:srgbClr val="000000"/>
              </a:solidFill>
              <a:latin typeface="Arial"/>
            </a:endParaRPr>
          </a:p>
        </p:txBody>
      </p:sp>
      <p:sp>
        <p:nvSpPr>
          <p:cNvPr id="83" name="Straight Connector 114"/>
          <p:cNvSpPr/>
          <p:nvPr/>
        </p:nvSpPr>
        <p:spPr>
          <a:xfrm flipH="1" flipV="1">
            <a:off x="30597120" y="11853720"/>
            <a:ext cx="2577960" cy="92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4" name="Picture 119" descr=""/>
          <p:cNvPicPr/>
          <p:nvPr/>
        </p:nvPicPr>
        <p:blipFill>
          <a:blip r:embed="rId7"/>
          <a:stretch/>
        </p:blipFill>
        <p:spPr>
          <a:xfrm>
            <a:off x="38599920" y="8988480"/>
            <a:ext cx="10680840" cy="7489800"/>
          </a:xfrm>
          <a:prstGeom prst="rect">
            <a:avLst/>
          </a:prstGeom>
          <a:ln w="0">
            <a:noFill/>
          </a:ln>
        </p:spPr>
      </p:pic>
      <p:pic>
        <p:nvPicPr>
          <p:cNvPr id="85" name="Picture 120" descr=""/>
          <p:cNvPicPr/>
          <p:nvPr/>
        </p:nvPicPr>
        <p:blipFill>
          <a:blip r:embed="rId8"/>
          <a:stretch/>
        </p:blipFill>
        <p:spPr>
          <a:xfrm>
            <a:off x="26816040" y="25787520"/>
            <a:ext cx="6410160" cy="4806720"/>
          </a:xfrm>
          <a:prstGeom prst="rect">
            <a:avLst/>
          </a:prstGeom>
          <a:ln w="0">
            <a:noFill/>
          </a:ln>
        </p:spPr>
      </p:pic>
      <p:sp>
        <p:nvSpPr>
          <p:cNvPr id="86" name="TextBox 121"/>
          <p:cNvSpPr/>
          <p:nvPr/>
        </p:nvSpPr>
        <p:spPr>
          <a:xfrm>
            <a:off x="33548760" y="28160640"/>
            <a:ext cx="3128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of a geothermal power plant located in Iceland.</a:t>
            </a:r>
            <a:endParaRPr b="0" lang="en-US" sz="2400" spc="-1" strike="noStrike">
              <a:solidFill>
                <a:srgbClr val="000000"/>
              </a:solidFill>
              <a:latin typeface="Arial"/>
            </a:endParaRPr>
          </a:p>
        </p:txBody>
      </p:sp>
      <p:sp>
        <p:nvSpPr>
          <p:cNvPr id="87" name="Straight Connector 122"/>
          <p:cNvSpPr/>
          <p:nvPr/>
        </p:nvSpPr>
        <p:spPr>
          <a:xfrm flipH="1" flipV="1">
            <a:off x="33210360" y="26934840"/>
            <a:ext cx="1773360" cy="119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8" name="TextBox 124"/>
          <p:cNvSpPr/>
          <p:nvPr/>
        </p:nvSpPr>
        <p:spPr>
          <a:xfrm>
            <a:off x="38833560" y="18396000"/>
            <a:ext cx="10044000" cy="1399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ibliograph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Geothermal Energy." </a:t>
            </a:r>
            <a:r>
              <a:rPr b="0" i="1" lang="en-US" sz="2400" spc="-1" strike="noStrike">
                <a:solidFill>
                  <a:srgbClr val="000000"/>
                </a:solidFill>
                <a:latin typeface="Arial"/>
              </a:rPr>
              <a:t>Clean-energy-ideas.com. Web. 2010. &lt;http://www.clean-energy-ideas.com/articles/disadvantages_of_geothermal_energy.html&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 website taught me about the disadvantages of geothermal ener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Facts." </a:t>
            </a:r>
            <a:r>
              <a:rPr b="0" i="1" lang="en-US" sz="2400" spc="-1" strike="noStrike">
                <a:solidFill>
                  <a:srgbClr val="000000"/>
                </a:solidFill>
                <a:latin typeface="Arial"/>
              </a:rPr>
              <a:t>Our-energy.com. Web. 25 Mar. 2010. &lt;http://www.our-energy.com/energy_facts/geothermal_energy_facts.html&gt;. This website gave me general information about geothermal energy. It also had a few interesting fa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a:t>
            </a:r>
            <a:r>
              <a:rPr b="0" i="1" lang="en-US" sz="2400" spc="-1" strike="noStrike">
                <a:solidFill>
                  <a:srgbClr val="000000"/>
                </a:solidFill>
                <a:latin typeface="Arial"/>
              </a:rPr>
              <a:t>Renewableenergyworld.com. Web. 25 Mar. 2010. &lt;http://www.renewableenergyworld.com/rea/tech/geothermal-energy&gt;. I used this source to find out about the uses of geothermal energy. Also, this explained a lot about heat pum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standeyo.com/Reports/041222.EQ.warning/West.Coast/ring.of.fire.gif. Web. 30 Mar. 20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icture of the map of the ring of fire came from this s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Can It Be Utilized in Your Home?" </a:t>
            </a:r>
            <a:r>
              <a:rPr b="0" i="1" lang="en-US" sz="2400" spc="-1" strike="noStrike">
                <a:solidFill>
                  <a:srgbClr val="000000"/>
                </a:solidFill>
                <a:latin typeface="Arial"/>
              </a:rPr>
              <a:t>Alternative-energy-resources.net. Web. 29 Mar. 2010. &lt;http://www.alternative-energy-resources.net/whatisgeothermalenergy.html&gt;. I took the diagrams of the different kinds of power plants from this s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a:t>
            </a:r>
            <a:r>
              <a:rPr b="0" i="1" lang="en-US" sz="2400" spc="-1" strike="noStrike">
                <a:solidFill>
                  <a:srgbClr val="000000"/>
                </a:solidFill>
                <a:latin typeface="Arial"/>
              </a:rPr>
              <a:t>Learnaboutenergy.org. Web. 26 Mar. 2010. &lt;http://www.learnaboutenergy.org/focus/part10.htm&gt;. I used this website for most of my information. It taught me about all the different kinds of power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6:57:44Z</dcterms:created>
  <dc:creator>Colin Purrington</dc:creator>
  <dc:description>Suggestions and gripes to: cpurrin1@swarthmore.edu</dc:description>
  <cp:keywords/>
  <dc:language>en-US</dc:language>
  <cp:lastModifiedBy>Charles Colvin</cp:lastModifiedBy>
  <cp:lastPrinted>2010-02-25T14:58:49Z</cp:lastPrinted>
  <dcterms:modified xsi:type="dcterms:W3CDTF">2010-03-31T02:02:01Z</dcterms:modified>
  <cp:revision>44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