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2E72-8204-4296-AB95-20398E935E2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ED84-5720-47C6-A5D5-7CFD48B71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23880" y="3840120"/>
            <a:ext cx="29870640" cy="19202400"/>
          </a:xfrm>
          <a:prstGeom prst="rect">
            <a:avLst/>
          </a:prstGeom>
          <a:ln w="0">
            <a:noFill/>
          </a:ln>
        </p:spPr>
      </p:sp>
      <p:sp>
        <p:nvSpPr>
          <p:cNvPr id="7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B8E6-582C-479C-8C29-C58AEEB38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E93F4-E320-4530-84A3-278DB36D6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59785-6E61-4652-ACCB-0BA2380E6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75E7C-B5F3-4E58-A8B0-A1D64B133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6F2E9-E1F1-4835-AD48-4A5C2A100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BD53F-76E2-42A5-8D15-B31293DE0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7573F-9C79-41EA-9799-9F2448E8B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BCA4-EB02-47AE-A903-081CC0CB4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C55BD-B6BF-4AF2-AC0D-F7994EA7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7F3A9-6985-4C11-983F-5EA1AA10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D146-A882-4C94-B4F8-07E4803DE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5B50-9DDD-4CAC-AD90-7E36DBCBA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3751-D84D-41C8-9895-30F675DF3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D583-1DA4-4928-B553-8AC50A5388DC}"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838080" y="768240"/>
            <a:ext cx="49528440" cy="3136752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15"/>
          <p:cNvSpPr/>
          <p:nvPr/>
        </p:nvSpPr>
        <p:spPr>
          <a:xfrm>
            <a:off x="38066760" y="17824320"/>
            <a:ext cx="10512360" cy="13244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Literature cited</a:t>
            </a:r>
            <a:endParaRPr b="0" lang="en-US" sz="44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ADVANTAGES AND DISADVANTAGES OF WIND POWER.” technologystudent.com. http://www.technologystudent.com/energy1/wind8.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st, Larry. “.Free Environmental Issues Newsletter!Sign Up.” About.com. http://environment.about.com/od/renewableenergy/a/wind_power.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newable Wind.” Energy Kids. http://tonto.eia.doe.gov/kids/energy.cfm?page=wind_home-basics-k.cf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Energy Resources: Wind power.” Energy Resources. http://www.darvill.clara.net/altenerg/wind.htm#adv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ickman, James. “Wind Turbine Energy: How It Works and Stocks to Watch.” Seeking Alpha. http://images.google.com/imgres?imgurl=http://static.seekingalpha.com/uploads/2009/3/22/saupload_wind6.jpg&amp;imgrefurl=http://seekingalpha.com/article/127153-wind-turbine-energy-how-it-works-and-stocks-to-watch&amp;usg=__JDUCoJGzLSD5CJ4ix3lY06LUJ7A=&amp;h=332&amp;w=510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sources.” American Wind Energy Association. http://www.awea.org/faq/wwt_potential.html#The%20wind%20doesnt%20blow%20all%20the%20time.%20How%20much%20can%20it%20really%20contribute%20to%20a%20utilitys%20generating%20capacity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The Economics of Wind Energy.” American Wind Energy Association. http://www.awea.org/pubs/factsheets/EconomicsOfWind-Feb2005.pdf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Wind: A leading source of new electricity generation.” Wind Power Outlook. http://www.awea.org/pubs/documents/Outlook_2009.pdf (accessed March 30, 2010). </a:t>
            </a:r>
            <a:endParaRPr b="0" lang="en-US" sz="2000" spc="-1" strike="noStrike">
              <a:solidFill>
                <a:srgbClr val="000000"/>
              </a:solidFill>
              <a:latin typeface="Arial"/>
            </a:endParaRPr>
          </a:p>
        </p:txBody>
      </p:sp>
      <p:sp>
        <p:nvSpPr>
          <p:cNvPr id="50" name="Text Box 7"/>
          <p:cNvSpPr/>
          <p:nvPr/>
        </p:nvSpPr>
        <p:spPr>
          <a:xfrm>
            <a:off x="1725480" y="6989760"/>
            <a:ext cx="11084040" cy="109965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Introduction: What is wind power?</a:t>
            </a:r>
            <a:endParaRPr b="0" lang="en-US" sz="4400" spc="-1" strike="noStrike">
              <a:solidFill>
                <a:srgbClr val="000000"/>
              </a:solidFill>
              <a:latin typeface="Arial"/>
            </a:endParaRPr>
          </a:p>
          <a:p>
            <a:pPr algn="just">
              <a:lnSpc>
                <a:spcPct val="100000"/>
              </a:lnSpc>
              <a:spcBef>
                <a:spcPts val="10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power is one out of the many sources of energy used around the world.  The wind has kinetic energy, because of the air moving, and with technology, the wind’s kinetic energy can be converted to other forms of energy.  For example, electricity or mechanical power.  Wind power generation uses a natural inexhaustible source of power (wind) to produce electricity.  This is a safer way than what the traditional power plants use for electricity, fossil fuels.  This generation is clean because it does not cause air, soil, or water pollution.  That is a big difference between wind and the other sources of energy.  Because wind is caused by the heat from the sun, it is a form of solar power. Wind energy is mainly used to generate electricity.  Since the air moves every time the sun shines, wind is a renewable source of energy. The Babylonians and Chinese used wind power to pump water for irrigating crops 4,000 years ago.  During the Middle Ages in Europe, wind power was used to grind corn. </a:t>
            </a:r>
            <a:endParaRPr b="0" lang="en-US" sz="22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Text Box 11"/>
          <p:cNvSpPr/>
          <p:nvPr/>
        </p:nvSpPr>
        <p:spPr>
          <a:xfrm>
            <a:off x="1725480" y="19002240"/>
            <a:ext cx="11112480" cy="12128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How is wind power used?</a:t>
            </a:r>
            <a:r>
              <a:rPr b="0" lang="en-US" sz="4400" spc="-1" strike="noStrike">
                <a:solidFill>
                  <a:srgbClr val="000066"/>
                </a:solidFill>
                <a:latin typeface="Century Gothic"/>
              </a:rPr>
              <a:t>	</a:t>
            </a:r>
            <a:endParaRPr b="0" lang="en-US" sz="4400" spc="-1" strike="noStrike">
              <a:solidFill>
                <a:srgbClr val="000000"/>
              </a:solidFill>
              <a:latin typeface="Arial"/>
            </a:endParaRPr>
          </a:p>
          <a:p>
            <a:pPr algn="just">
              <a:lnSpc>
                <a:spcPct val="100000"/>
              </a:lnSpc>
              <a:spcBef>
                <a:spcPts val="7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is the air in motion and is caused by the uneven heating by the sun on the Earth’s surface.  The wind cycles are different because of the different surfaces of the Earth all over the world.  To generate power, there needs to be wind so the blades of the turbine can move.  Wind power is easily used because mostly everyday the wind is blowing.  One issue with this is that the winds blows differently each day.  Wind turbines can be more effect when put together, big fields of many turbines are called “wind farms.”  It is only worth building a “wind farm” if there is strong winds almost everyday in that one area.  The best places for wind turbines are coastal areas, at the tops of rounded hills, open plains and gaps in mountains - places where there is an average wind speed of around 25 km/h. </a:t>
            </a:r>
            <a:endParaRPr b="0" lang="en-US" sz="2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r>
              <a:rPr b="0" lang="en-US" sz="2200" spc="-1" strike="noStrike">
                <a:solidFill>
                  <a:srgbClr val="000000"/>
                </a:solidFill>
                <a:latin typeface="Century Gothic"/>
              </a:rPr>
              <a:t>How the wind turbines work:</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used to collect the wind kinetic energy</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wind causes the blades to turn</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connected to a drive shaft that turns an electric generator</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52" name="Text Box 12"/>
          <p:cNvSpPr/>
          <p:nvPr/>
        </p:nvSpPr>
        <p:spPr>
          <a:xfrm>
            <a:off x="13895280" y="6954840"/>
            <a:ext cx="10512360" cy="2423952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609480" indent="-609480"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Advantages of Wind Power:</a:t>
            </a:r>
            <a:endParaRPr b="0" lang="en-US" sz="4400" spc="-1" strike="noStrike">
              <a:solidFill>
                <a:srgbClr val="000000"/>
              </a:solidFill>
              <a:latin typeface="Arial"/>
            </a:endParaRPr>
          </a:p>
          <a:p>
            <a:pPr marL="609480" indent="-609480"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 </a:t>
            </a:r>
            <a:r>
              <a:rPr b="1" lang="en-US" sz="2000" spc="-1" strike="noStrike">
                <a:solidFill>
                  <a:srgbClr val="000000"/>
                </a:solidFill>
                <a:latin typeface="Century Gothic"/>
              </a:rPr>
              <a:t>1. </a:t>
            </a:r>
            <a:r>
              <a:rPr b="0" lang="en-US" sz="2000" spc="-1" strike="noStrike">
                <a:solidFill>
                  <a:srgbClr val="000000"/>
                </a:solidFill>
                <a:latin typeface="Century Gothic"/>
              </a:rPr>
              <a:t>The wind is free and with modern technology it can be captured efficient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The energy that the wind turbine produces most of the time does not cause green house gases or other pollutant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each takes up only a small plot of land. This means that the land below can still be used.</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Some people enjoy looking at and studying the wind farm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Remote areas that are not connected to the electricity power grid can use wind turbines to produce their own supp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Wind turbines do not need fuel to function</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7.</a:t>
            </a:r>
            <a:r>
              <a:rPr b="0" lang="en-US" sz="2000" spc="-1" strike="noStrike">
                <a:solidFill>
                  <a:srgbClr val="000000"/>
                </a:solidFill>
                <a:latin typeface="Century Gothic"/>
              </a:rPr>
              <a:t> Wind turbines are available in many sizes which means a vast range of people and businesses can use them. Single households to small towns and villages can make good use of wind turbines that are available today.</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066760" y="6954840"/>
            <a:ext cx="10512360" cy="982188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nclusion</a:t>
            </a:r>
            <a:endParaRPr b="0" lang="en-US" sz="4400" spc="-1" strike="noStrike">
              <a:solidFill>
                <a:srgbClr val="000000"/>
              </a:solidFill>
              <a:latin typeface="Arial"/>
            </a:endParaRPr>
          </a:p>
          <a:p>
            <a:pPr>
              <a:lnSpc>
                <a:spcPct val="100000"/>
              </a:lnSpc>
              <a:spcBef>
                <a:spcPts val="1125"/>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all, wind power is a good source for electricity.  There are many advantages to the wind turbines and they do help out many areas of the world.  Wind power is healthy for the environment most of the time, with only some pollutants not that often.  Another great factor of wind power is that it is renewable.  The wind turbines also help many with money. The “wind farms” are creating new jobs for many and they are allowing the farmers to have some income.  For example, John Hildebrand, who is a Sherman County wheat and wind farmer said this, “The turbines use very little land and the new roads give us better access to our fields. Plus, the turbines make money in the winter when I can’t work my land.”  There should be an effort to build more wind turbines around the world.  The turbines do not do much damage, they do not harm the environment and they help the people around them.  In the future, maybe some scientist will discover ways to improve the disadvantages of the wind turbines to make them even better and more efficient than they are now.    </a:t>
            </a:r>
            <a:endParaRPr b="0" lang="en-US" sz="2400" spc="-1" strike="noStrike">
              <a:solidFill>
                <a:srgbClr val="000000"/>
              </a:solidFill>
              <a:latin typeface="Arial"/>
            </a:endParaRPr>
          </a:p>
        </p:txBody>
      </p:sp>
      <p:sp>
        <p:nvSpPr>
          <p:cNvPr id="54" name="Text Box 14"/>
          <p:cNvSpPr/>
          <p:nvPr/>
        </p:nvSpPr>
        <p:spPr>
          <a:xfrm>
            <a:off x="1378080" y="52610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entury Gothic"/>
              </a:rPr>
              <a:t>Lauren Flammia and Kayla Creamer</a:t>
            </a:r>
            <a:endParaRPr b="0" lang="en-US" sz="6000" spc="-1" strike="noStrike">
              <a:solidFill>
                <a:srgbClr val="000000"/>
              </a:solidFill>
              <a:latin typeface="Arial"/>
            </a:endParaRPr>
          </a:p>
        </p:txBody>
      </p:sp>
      <p:sp>
        <p:nvSpPr>
          <p:cNvPr id="55" name="Text Box 23"/>
          <p:cNvSpPr/>
          <p:nvPr/>
        </p:nvSpPr>
        <p:spPr>
          <a:xfrm>
            <a:off x="6469200" y="15774840"/>
            <a:ext cx="4800600" cy="170784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1.</a:t>
            </a:r>
            <a:r>
              <a:rPr b="0" lang="en-US" sz="2000" spc="-1" strike="noStrike">
                <a:solidFill>
                  <a:srgbClr val="000000"/>
                </a:solidFill>
                <a:latin typeface="Century Gothic"/>
              </a:rPr>
              <a:t> This is a wind turbine.  Wind turbines can be seen in rural or suburban areas.  Wind turbines can also be found either on land or in the ocean.</a:t>
            </a:r>
            <a:endParaRPr b="0" lang="en-US" sz="2000" spc="-1" strike="noStrike">
              <a:solidFill>
                <a:srgbClr val="000000"/>
              </a:solidFill>
              <a:latin typeface="Arial"/>
            </a:endParaRPr>
          </a:p>
        </p:txBody>
      </p:sp>
      <p:sp>
        <p:nvSpPr>
          <p:cNvPr id="56" name="Text Box 33"/>
          <p:cNvSpPr/>
          <p:nvPr/>
        </p:nvSpPr>
        <p:spPr>
          <a:xfrm>
            <a:off x="2259000" y="28746360"/>
            <a:ext cx="5283360" cy="14029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2</a:t>
            </a:r>
            <a:r>
              <a:rPr b="0" lang="en-US" sz="2000" spc="-1" strike="noStrike">
                <a:solidFill>
                  <a:srgbClr val="000000"/>
                </a:solidFill>
                <a:latin typeface="Century Gothic"/>
              </a:rPr>
              <a:t>. This is an image of a “wind farm.”  A “wind farm” a large field with many wind turbines to create more electricity.</a:t>
            </a:r>
            <a:endParaRPr b="0" lang="en-US" sz="2000" spc="-1" strike="noStrike">
              <a:solidFill>
                <a:srgbClr val="000000"/>
              </a:solidFill>
              <a:latin typeface="Arial"/>
            </a:endParaRPr>
          </a:p>
        </p:txBody>
      </p:sp>
      <p:sp>
        <p:nvSpPr>
          <p:cNvPr id="57" name="Rectangle 31"/>
          <p:cNvSpPr/>
          <p:nvPr/>
        </p:nvSpPr>
        <p:spPr>
          <a:xfrm>
            <a:off x="14690880" y="17498880"/>
            <a:ext cx="8780400" cy="6891480"/>
          </a:xfrm>
          <a:prstGeom prst="rect">
            <a:avLst/>
          </a:prstGeom>
          <a:noFill/>
          <a:ln w="0">
            <a:noFill/>
          </a:ln>
        </p:spPr>
        <p:style>
          <a:lnRef idx="0"/>
          <a:fillRef idx="0"/>
          <a:effectRef idx="0"/>
          <a:fontRef idx="minor"/>
        </p:style>
        <p:txBody>
          <a:bodyPr lIns="90000" rIns="90000" tIns="91440" bIns="9144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1.</a:t>
            </a:r>
            <a:r>
              <a:rPr b="0" lang="en-US" sz="2000" spc="-1" strike="noStrike">
                <a:solidFill>
                  <a:srgbClr val="000000"/>
                </a:solidFill>
                <a:latin typeface="Century Gothic"/>
              </a:rPr>
              <a:t> The strength of the wind is never constant, it varies on the day. This means that wind turbines do not produce the same amount of electricity all the time. There could be times when they produce no electricity at all or other times when they can work enough to supply everyone who needs to be.</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Many people feel that the countryside should be left untouched, without these large structures being built.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are noisy. One of these wind turbines can generate the same level of noise as a car traveling at 70 mp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Many people see large wind turbines as unsightly structures and not pleasant or interesting to look at. They disfigure the countryside and are generally ugly.</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When the wind turbines are being manufactured some pollution is produced.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Large wind farms are needed to provide entire communities with enough electricity. For example, the largest single turbine today can only provide enough electricity for 475 homes.</a:t>
            </a:r>
            <a:endParaRPr b="0" lang="en-US" sz="2000" spc="-1" strike="noStrike">
              <a:solidFill>
                <a:srgbClr val="000000"/>
              </a:solidFill>
              <a:latin typeface="Arial"/>
            </a:endParaRPr>
          </a:p>
        </p:txBody>
      </p:sp>
      <p:sp>
        <p:nvSpPr>
          <p:cNvPr id="58" name="Text Box 114"/>
          <p:cNvSpPr/>
          <p:nvPr/>
        </p:nvSpPr>
        <p:spPr>
          <a:xfrm>
            <a:off x="25981200" y="6958080"/>
            <a:ext cx="10512360" cy="24194880"/>
          </a:xfrm>
          <a:prstGeom prst="rect">
            <a:avLst/>
          </a:prstGeom>
          <a:solidFill>
            <a:srgbClr val="ffffff"/>
          </a:solidFill>
          <a:ln w="12600">
            <a:solidFill>
              <a:srgbClr val="000080"/>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59"/>
          <p:cNvSpPr/>
          <p:nvPr/>
        </p:nvSpPr>
        <p:spPr>
          <a:xfrm>
            <a:off x="27346320" y="19810440"/>
            <a:ext cx="8607240" cy="7930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4. </a:t>
            </a:r>
            <a:r>
              <a:rPr b="0" lang="en-US" sz="2000" spc="-1" strike="noStrike">
                <a:solidFill>
                  <a:srgbClr val="000000"/>
                </a:solidFill>
                <a:latin typeface="Century Gothic"/>
              </a:rPr>
              <a:t>This is a graph that shows how the wind turbines gained power and effectiveness from 1980 to into the future in 2015.</a:t>
            </a:r>
            <a:endParaRPr b="0" lang="en-US" sz="2000" spc="-1" strike="noStrike">
              <a:solidFill>
                <a:srgbClr val="000000"/>
              </a:solidFill>
              <a:latin typeface="Arial"/>
            </a:endParaRPr>
          </a:p>
        </p:txBody>
      </p:sp>
      <p:sp>
        <p:nvSpPr>
          <p:cNvPr id="60" name="Rectangle 67"/>
          <p:cNvSpPr/>
          <p:nvPr/>
        </p:nvSpPr>
        <p:spPr>
          <a:xfrm>
            <a:off x="26827200" y="29918160"/>
            <a:ext cx="9021600" cy="5745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5.  </a:t>
            </a:r>
            <a:r>
              <a:rPr b="0" lang="en-US" sz="2000" spc="-1" strike="noStrike">
                <a:solidFill>
                  <a:srgbClr val="000000"/>
                </a:solidFill>
                <a:latin typeface="Century Gothic"/>
              </a:rPr>
              <a:t>This is a diagram of the wind turbine.  The three parts shown in this diagram are the propeller blades, the gearbox and generator, and the tower.</a:t>
            </a:r>
            <a:endParaRPr b="0" lang="en-US" sz="2000" spc="-1" strike="noStrike">
              <a:solidFill>
                <a:srgbClr val="000000"/>
              </a:solidFill>
              <a:latin typeface="Arial"/>
            </a:endParaRPr>
          </a:p>
        </p:txBody>
      </p:sp>
      <p:sp>
        <p:nvSpPr>
          <p:cNvPr id="61" name=""/>
          <p:cNvSpPr/>
          <p:nvPr/>
        </p:nvSpPr>
        <p:spPr>
          <a:xfrm>
            <a:off x="14581080" y="16570440"/>
            <a:ext cx="868068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Disadvantages of Wind Power:</a:t>
            </a:r>
            <a:endParaRPr b="0" lang="en-US" sz="4400" spc="-1" strike="noStrike">
              <a:solidFill>
                <a:srgbClr val="000000"/>
              </a:solidFill>
              <a:latin typeface="Arial"/>
            </a:endParaRPr>
          </a:p>
        </p:txBody>
      </p:sp>
      <p:pic>
        <p:nvPicPr>
          <p:cNvPr id="62" name="" descr=""/>
          <p:cNvPicPr/>
          <p:nvPr/>
        </p:nvPicPr>
        <p:blipFill>
          <a:blip r:embed="rId1"/>
          <a:stretch/>
        </p:blipFill>
        <p:spPr>
          <a:xfrm>
            <a:off x="2828880" y="13979520"/>
            <a:ext cx="2840040" cy="3786120"/>
          </a:xfrm>
          <a:prstGeom prst="rect">
            <a:avLst/>
          </a:prstGeom>
          <a:ln w="0">
            <a:noFill/>
          </a:ln>
        </p:spPr>
      </p:pic>
      <p:sp>
        <p:nvSpPr>
          <p:cNvPr id="63" name=""/>
          <p:cNvSpPr txBox="1"/>
          <p:nvPr/>
        </p:nvSpPr>
        <p:spPr>
          <a:xfrm>
            <a:off x="17399160" y="1644480"/>
            <a:ext cx="1587024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Biondi"/>
              </a:rPr>
              <a:t>WIND POWER</a:t>
            </a:r>
            <a:endParaRPr b="1" lang="en-US" sz="3200" spc="1" strike="noStrike">
              <a:ln w="9360">
                <a:solidFill>
                  <a:srgbClr val="000000"/>
                </a:solidFill>
                <a:miter/>
              </a:ln>
              <a:solidFill>
                <a:srgbClr val="ffffff"/>
              </a:solidFill>
              <a:latin typeface="Biondi"/>
              <a:ea typeface="Biondi"/>
            </a:endParaRPr>
          </a:p>
        </p:txBody>
      </p:sp>
      <p:pic>
        <p:nvPicPr>
          <p:cNvPr id="64" name="" descr=""/>
          <p:cNvPicPr/>
          <p:nvPr/>
        </p:nvPicPr>
        <p:blipFill>
          <a:blip r:embed="rId2"/>
          <a:stretch/>
        </p:blipFill>
        <p:spPr>
          <a:xfrm>
            <a:off x="7705800" y="27290880"/>
            <a:ext cx="4730760" cy="3547800"/>
          </a:xfrm>
          <a:prstGeom prst="rect">
            <a:avLst/>
          </a:prstGeom>
          <a:ln w="0">
            <a:noFill/>
          </a:ln>
        </p:spPr>
      </p:pic>
      <p:sp>
        <p:nvSpPr>
          <p:cNvPr id="65" name=""/>
          <p:cNvSpPr/>
          <p:nvPr/>
        </p:nvSpPr>
        <p:spPr>
          <a:xfrm>
            <a:off x="26408160" y="7413480"/>
            <a:ext cx="59148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sts</a:t>
            </a:r>
            <a:endParaRPr b="0" lang="en-US" sz="4400" spc="-1" strike="noStrike">
              <a:solidFill>
                <a:srgbClr val="000000"/>
              </a:solidFill>
              <a:latin typeface="Arial"/>
            </a:endParaRPr>
          </a:p>
        </p:txBody>
      </p:sp>
      <p:sp>
        <p:nvSpPr>
          <p:cNvPr id="66" name=""/>
          <p:cNvSpPr/>
          <p:nvPr/>
        </p:nvSpPr>
        <p:spPr>
          <a:xfrm>
            <a:off x="26722440" y="21101040"/>
            <a:ext cx="605772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Possibilities</a:t>
            </a:r>
            <a:endParaRPr b="0" lang="en-US" sz="4400" spc="-1" strike="noStrike">
              <a:solidFill>
                <a:srgbClr val="000000"/>
              </a:solidFill>
              <a:latin typeface="Arial"/>
            </a:endParaRPr>
          </a:p>
        </p:txBody>
      </p:sp>
      <p:sp>
        <p:nvSpPr>
          <p:cNvPr id="67" name=""/>
          <p:cNvSpPr/>
          <p:nvPr/>
        </p:nvSpPr>
        <p:spPr>
          <a:xfrm>
            <a:off x="14720760" y="25558920"/>
            <a:ext cx="54864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Scale</a:t>
            </a:r>
            <a:endParaRPr b="0" lang="en-US" sz="4400" spc="-1" strike="noStrike">
              <a:solidFill>
                <a:srgbClr val="000000"/>
              </a:solidFill>
              <a:latin typeface="Arial"/>
            </a:endParaRPr>
          </a:p>
        </p:txBody>
      </p:sp>
      <p:pic>
        <p:nvPicPr>
          <p:cNvPr id="68" name="" descr=""/>
          <p:cNvPicPr/>
          <p:nvPr/>
        </p:nvPicPr>
        <p:blipFill>
          <a:blip r:embed="rId3"/>
          <a:stretch/>
        </p:blipFill>
        <p:spPr>
          <a:xfrm>
            <a:off x="26065080" y="12871440"/>
            <a:ext cx="10320480" cy="6966000"/>
          </a:xfrm>
          <a:prstGeom prst="rect">
            <a:avLst/>
          </a:prstGeom>
          <a:ln w="0">
            <a:noFill/>
          </a:ln>
        </p:spPr>
      </p:pic>
      <p:pic>
        <p:nvPicPr>
          <p:cNvPr id="69" name="" descr="Graphic by Will Darvill"/>
          <p:cNvPicPr/>
          <p:nvPr/>
        </p:nvPicPr>
        <p:blipFill>
          <a:blip r:embed="rId4"/>
          <a:stretch/>
        </p:blipFill>
        <p:spPr>
          <a:xfrm>
            <a:off x="27408240" y="25101720"/>
            <a:ext cx="7851600" cy="4448160"/>
          </a:xfrm>
          <a:prstGeom prst="rect">
            <a:avLst/>
          </a:prstGeom>
          <a:ln w="0">
            <a:noFill/>
          </a:ln>
        </p:spPr>
      </p:pic>
      <p:sp>
        <p:nvSpPr>
          <p:cNvPr id="70" name=""/>
          <p:cNvSpPr/>
          <p:nvPr/>
        </p:nvSpPr>
        <p:spPr>
          <a:xfrm>
            <a:off x="14441400" y="26735760"/>
            <a:ext cx="9406080" cy="304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nd can sometimes be hard to have an energy source because wind does not blow all the time. Power plants do not prefer wind, they like that the conventional energy, or energy that produces the energy needed.  Between the years 2000 to 2006 wind has doubled and has been used in the U.S. and Europe. Wind on average supplies about 20% of the U.S. energy.  Wind is very important to North Dakota because it is capable of producing enough energy. In Germany wind is used 25% to the energy demand. But in Denmark 100% of the energy comes from wind because of the windy nights. In the whole world at the end of 2004 we used about 47,000 megawatts in one year. An average of 9 million Americans would use wind as energy. </a:t>
            </a:r>
            <a:endParaRPr b="0" lang="en-US" sz="2000" spc="-1" strike="noStrike">
              <a:solidFill>
                <a:srgbClr val="000000"/>
              </a:solidFill>
              <a:latin typeface="Arial"/>
            </a:endParaRPr>
          </a:p>
        </p:txBody>
      </p:sp>
      <p:sp>
        <p:nvSpPr>
          <p:cNvPr id="71" name=""/>
          <p:cNvSpPr/>
          <p:nvPr/>
        </p:nvSpPr>
        <p:spPr>
          <a:xfrm>
            <a:off x="26578080" y="22116600"/>
            <a:ext cx="9242280" cy="182988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hopes for wind is creating new jobs for people and help keep the air clean.  If more wind turbines and farms are built, more people around the world can have new jobs.  Wind is also a contribution to going green because most of the time wind power does not give off pollutants.  Later on, scientists are hoping to improve the wind turbines to get rid of all the disadvantages of the machines.</a:t>
            </a:r>
            <a:endParaRPr b="0" lang="en-US" sz="2000" spc="-1" strike="noStrike">
              <a:solidFill>
                <a:srgbClr val="000000"/>
              </a:solidFill>
              <a:latin typeface="Arial"/>
            </a:endParaRPr>
          </a:p>
        </p:txBody>
      </p:sp>
      <p:sp>
        <p:nvSpPr>
          <p:cNvPr id="72" name=""/>
          <p:cNvSpPr/>
          <p:nvPr/>
        </p:nvSpPr>
        <p:spPr>
          <a:xfrm>
            <a:off x="26233560" y="8355960"/>
            <a:ext cx="10198080" cy="414684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Century Gothic"/>
              </a:rPr>
              <a:t> </a:t>
            </a:r>
            <a:r>
              <a:rPr b="0" lang="en-US" sz="2000" spc="-1" strike="noStrike">
                <a:solidFill>
                  <a:srgbClr val="000000"/>
                </a:solidFill>
                <a:latin typeface="Century Gothic"/>
              </a:rPr>
              <a:t>The cost depends on the size of the wind farm, the bigger the farm the smaller the cost.  The higher that windmills produce the lower cost of energy.  The lower the wind speed the higher the cost will be, in New England the wind cost is about six-seven cent/ Kwh. While in other places with higher wind speed the cost is less than 5cent/kwh. To use energy you have to have a permit that costs $400 to $1,600 to get started or that is or fee. Farmers are the ones that use wind as a resource, they used it on their farms because they have tones of land, and it costs less than gas. In Iowa a school used wind for energy and saved over $1.6 million in electricity cost that will help them for a life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Wind is also good for the economy because it provides jobs, and wind supplies are affordable. A lot of businesses use wind as and energy source causing them to save money. They say that over the next decade that wind will be worth over $100 billion, and this will help create more job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Theresa Flammia</cp:lastModifiedBy>
  <cp:lastPrinted>2010-02-25T14:58:49Z</cp:lastPrinted>
  <dcterms:modified xsi:type="dcterms:W3CDTF">2010-03-31T18:45:42Z</dcterms:modified>
  <cp:revision>45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