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EC89-A875-429F-9A9B-807E7D68AB0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A523-8CFE-4929-8878-26BBA750E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23880" y="3840120"/>
            <a:ext cx="29870640" cy="19202400"/>
          </a:xfrm>
          <a:prstGeom prst="rect">
            <a:avLst/>
          </a:prstGeom>
          <a:ln w="0">
            <a:noFill/>
          </a:ln>
        </p:spPr>
      </p:sp>
      <p:sp>
        <p:nvSpPr>
          <p:cNvPr id="7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686F-54B4-487B-A5F4-339B296BF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F795B-32AB-4461-B966-3CEBF0BA6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01E1-105A-4A2A-A3B6-FF7E7F6F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3BA8-DFE4-46B4-8C5E-9FA765E6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396CE-1A05-407A-81F5-145666597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AAD6-98E9-4353-A064-8A5CC23B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68CAD-33B8-4C44-BAE6-6F586BBA8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F5A44-15B4-484A-8FF9-264411F7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20CF4-36E4-48FF-91CC-7BED1BDD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F407-67DB-4F58-B30D-F1F6ABF6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5D61-5A9A-4E52-AB3A-695490CD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FA9C-65C9-4239-9A43-2903F336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38F4-B4E7-4263-94B4-7C9CA2427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84FA-1C3F-447B-8080-CA9B91EFE50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4608360" y="1133640"/>
            <a:ext cx="49528440" cy="3136716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5572080" y="731052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clear power was first discovered in Germany in 1934 when Otto Hahn and Fritz Strassman, in cooperation with Lisa Meitner who had been forced to flee the country with rise of National Socialism, successfully split an atom in what would come to be known as Nuclear fission. This single reaction created more energy than any other chemical reaction to date. To turn this into power, Nuclear plants were created where controlled nuclear reactions took place using nuclear fission. Although there is another form of creating nuclear energy known as nuclear fusion which binds atoms instead of splitting them, nuclear fission is still the only nuclear reaction used to produce energy.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would be World War II that would bring about the first successful large scale nuclear reaction coming out of the Manhattan Project, a program run by the United States to design the first nuclear weapon. The first Nuclear power plant however, was not opened until in the Union of Soviet Socialist Republic’s in Obninsk in 1954. In 1956 the first commercial Nuclear power plant was opened in Sellafield, England. The first to open in the United States was the Shippingport Reactor in Pennsylvania in 1957.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5467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erials and methods</a:t>
            </a:r>
            <a:r>
              <a:rPr b="0" lang="en-US" sz="2400" spc="-1" strike="noStrike">
                <a:solidFill>
                  <a:srgbClr val="ff8000"/>
                </a:solidFill>
                <a:latin typeface="Times New Roman"/>
              </a:rPr>
              <a:t>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plants are fueled by uranium.</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a naturally-occurring element found in the Rocky Mountains as well as other countries around the world including Canada, South Africa, and Australia.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is possible through the almost infinite energy stored in uranium atom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mined in open pit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hree producers of uranium are Canada, Kazakhstan, and Australia.</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bstraction from the ground, the uranium is crushed and seperated from other minerals using chemical leaching.</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for the uranium to be used in a nuclear reaction, it must first be enriched.</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is the process of seperating the uranium’s isotope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can be done through gaseous diffusion, thermal diffusion, gas centrifuge, zippe centrifuge, atomic vapor laser isotope separation (AVLIS), molecular laser isotope separation (MLIS), and electromagnetic isotope separation.</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level of enrichment required for nuclear weapons is at least 90%, the level for uranium used in nuclear reactors can be as low as 3%.</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6865640" y="739620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ower to Electricity</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atoms within the nuclear reactors are split they create an intense heat, that is so hot that millions of gallons of water are required to cool the reactor. When this water comes in contact with the heat, or energy, it turns to steam, which is directed towards turbines. The pressure created by the steam drives the turbines, which in turn drives a generator that produces electricity. The steam is then released through enormous towers, known as cooling towers. The electricity, on the other hand, is sent towards homes, hospitals, and used to power the tools of everyday lif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that takes place within the reactor, although simple, is very balanced, and yet the slightest thing can lead to disaster. First, the enriched uranium atoms are placed inside an extremely thick concrete reactor. They are then bombarded with neutrons until the atoms split. To control this reaction, control rods are inserted into the generator that absorb neutrons, allowing scientists to increase or decrease the chances of an atom splitting. This, however, does not always work, especially when the reactor gets so hot that the control rods melt, sometimes right through the reactor itself.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e</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15% of the world energy came from nuclear power.</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uses the most nuclear energy with 77% of the countries energy originating in nuclea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8 there were 430 working nuclear powe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about 2,000 metric tons of radioactive waste is created every year.</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40694040" y="7256520"/>
            <a:ext cx="1051236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ture for nuclear energy holds unlimited possibilities that could even solve some of the global crisis facing the planet today. Despite the inevitable exhaustion of uranium, there remains at minimum 65 years of an energy source that does not leave a carbon footprint. Nuclear energy is also much cheaper than fossil fuels in use today such as oil, making certain aspects of the economy such as rising and falling fuel costs insignificant.</a:t>
            </a:r>
            <a:endParaRPr b="0" lang="en-US" sz="2400" spc="-1" strike="noStrike">
              <a:solidFill>
                <a:srgbClr val="000000"/>
              </a:solidFill>
              <a:latin typeface="Arial"/>
            </a:endParaRPr>
          </a:p>
        </p:txBody>
      </p:sp>
      <p:sp>
        <p:nvSpPr>
          <p:cNvPr id="53" name="Text Box 14"/>
          <p:cNvSpPr/>
          <p:nvPr/>
        </p:nvSpPr>
        <p:spPr>
          <a:xfrm>
            <a:off x="1947960" y="45338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ick MacDonald, Ryan Prince, Greg Anderson</a:t>
            </a:r>
            <a:endParaRPr b="0" lang="en-US" sz="6000" spc="-1" strike="noStrike">
              <a:solidFill>
                <a:srgbClr val="000000"/>
              </a:solidFill>
              <a:latin typeface="Arial"/>
            </a:endParaRPr>
          </a:p>
        </p:txBody>
      </p:sp>
      <p:sp>
        <p:nvSpPr>
          <p:cNvPr id="54" name="Text Box 15"/>
          <p:cNvSpPr/>
          <p:nvPr/>
        </p:nvSpPr>
        <p:spPr>
          <a:xfrm>
            <a:off x="40694040" y="19481760"/>
            <a:ext cx="10512360" cy="89773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Literature cited</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petervaldivia.com/technology/energy/image/nuclear/Nuclear_fission.pn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stzblog.com/sitebuildercontent/sitebuilderpictures/chernobyl3.jp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eb.mit.edu/nuclearpower/</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ing.com/images/search?q=nuclear+power+scale&amp;FORM=BIFD#focal=68e093e1dff0ae5b47ed50d1e0ecc64e&amp;furl=http%3A%2F%2Fstatic.guim.co.uk%2Fsys-images%2FGuardian%2FPix%2Fpictures%2F2009%2F10%2F19%2F1255975953837%2FGraphic--Nuclear-power-ar-001.jpg</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arvill.clara.net/altenerg/nuclear.htm</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uscalepower.com/</a:t>
            </a:r>
            <a:endParaRPr b="0" lang="en-US" sz="3200" spc="-1" strike="noStrike">
              <a:solidFill>
                <a:srgbClr val="000000"/>
              </a:solidFill>
              <a:latin typeface="Arial"/>
            </a:endParaRPr>
          </a:p>
        </p:txBody>
      </p:sp>
      <p:sp>
        <p:nvSpPr>
          <p:cNvPr id="55" name="Text Box 23"/>
          <p:cNvSpPr/>
          <p:nvPr/>
        </p:nvSpPr>
        <p:spPr>
          <a:xfrm>
            <a:off x="10363320" y="15743160"/>
            <a:ext cx="4800600" cy="12805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ile Island Nuclear Power Facility at Harrisburg, PA. </a:t>
            </a:r>
            <a:endParaRPr b="0" lang="en-US" sz="2400" spc="-1" strike="noStrike">
              <a:solidFill>
                <a:srgbClr val="000000"/>
              </a:solidFill>
              <a:latin typeface="Arial"/>
            </a:endParaRPr>
          </a:p>
        </p:txBody>
      </p:sp>
      <p:sp>
        <p:nvSpPr>
          <p:cNvPr id="56"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894976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advantages of nuclear power is the ability to create a lot of energy out of a little matter. This means that while tons of fossil fuels such oil must be used to produce a certain amount of electricity, a minute fraction of that amount of uranium is required to produce the same amount of energy through a nuclear reaction. Also, as nuclear power does not require fossil fuels, the cost is not effected by the dramatic drops and increases in their prices. Such fossil fuels also release an enormous amount of CO2 into the atmosphere every day, and such would not be the case with nuclear power plants, that would emit an extremely small amount of CO2.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clear power plants also create large sanctuaries for plant and wildlife, and are legally required to so, unlike plants that burn coal. This is because law requires that there be a certain amount of land between nuclear power plants and the nearest significant human population so that incase of a meltdown, radioactive material would inflict minimum damage on a human population. Due to fact that dramatically less uranium is used that fossil fuels and other energy sources, less land must be destroyed and less wildlife displaced.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greatest fear and disadvantage that comes with nuclear power is that of a meltdown. This is when atoms inside the reaction begin splitting uncontrollably, melting the reactor, and spewing radioactive material outside of the plant. This can lead to many diseases and medical issues, especially cancer and birth defects in populations near the location of the meltdown, as well as contamination of natural resources such as water supplies, killing plant and wildlife for miles. An example of such an event was the meltdown at a nuclear power plant in Chernobyl, Ukraine, where the reactor melted, subsequently causing thousands of deaths, and spreading radioactive debris over thousands of miles.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problem with nuclear power is the waste that is created. While fossil fuels are burned, the waste from a nuclear reaction remains, but can not simply be thrown away. This is because it is radioactive, meaning that it can contaminate anything it is in a certain proximity to. As a way of making sure this does not happen, after a nuclear reaction, the waste is stored in enormous concrete containers for a few years, and then mixed with other chemicals and moved to a more permanent location. Eventually the radioactivity decays to a safe level, but this can take from hundreds to thousands of years. As a result, all of the nuclear waste used to date is still just taking up spac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17"/>
          <p:cNvSpPr/>
          <p:nvPr/>
        </p:nvSpPr>
        <p:spPr>
          <a:xfrm>
            <a:off x="27355680" y="1458432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2" name="Rectangle 22"/>
          <p:cNvSpPr/>
          <p:nvPr/>
        </p:nvSpPr>
        <p:spPr>
          <a:xfrm>
            <a:off x="2963880" y="15544800"/>
            <a:ext cx="3487680" cy="1930320"/>
          </a:xfrm>
          <a:prstGeom prst="rect">
            <a:avLst/>
          </a:prstGeom>
          <a:noFill/>
          <a:ln w="12600">
            <a:solidFill>
              <a:srgbClr val="808080"/>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180"/>
          <p:cNvSpPr/>
          <p:nvPr/>
        </p:nvSpPr>
        <p:spPr>
          <a:xfrm>
            <a:off x="10558440" y="1938240"/>
            <a:ext cx="303832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Finding Solutions to How We Power the Planet: Nuclear Power</a:t>
            </a:r>
            <a:endParaRPr b="0" lang="en-US" sz="8000" spc="-1" strike="noStrike">
              <a:solidFill>
                <a:srgbClr val="000000"/>
              </a:solidFill>
              <a:latin typeface="Arial"/>
            </a:endParaRPr>
          </a:p>
        </p:txBody>
      </p:sp>
      <p:pic>
        <p:nvPicPr>
          <p:cNvPr id="64" name="" descr=""/>
          <p:cNvPicPr/>
          <p:nvPr/>
        </p:nvPicPr>
        <p:blipFill>
          <a:blip r:embed="rId1"/>
          <a:stretch/>
        </p:blipFill>
        <p:spPr>
          <a:xfrm>
            <a:off x="6610320" y="15703560"/>
            <a:ext cx="3619440" cy="2278080"/>
          </a:xfrm>
          <a:prstGeom prst="rect">
            <a:avLst/>
          </a:prstGeom>
          <a:ln w="0">
            <a:noFill/>
          </a:ln>
        </p:spPr>
      </p:pic>
      <p:pic>
        <p:nvPicPr>
          <p:cNvPr id="65" name="" descr=""/>
          <p:cNvPicPr/>
          <p:nvPr/>
        </p:nvPicPr>
        <p:blipFill>
          <a:blip r:embed="rId2"/>
          <a:stretch/>
        </p:blipFill>
        <p:spPr>
          <a:xfrm>
            <a:off x="12301560" y="28714680"/>
            <a:ext cx="2209680" cy="2209680"/>
          </a:xfrm>
          <a:prstGeom prst="rect">
            <a:avLst/>
          </a:prstGeom>
          <a:ln w="0">
            <a:noFill/>
          </a:ln>
        </p:spPr>
      </p:pic>
      <p:pic>
        <p:nvPicPr>
          <p:cNvPr id="66" name="" descr=""/>
          <p:cNvPicPr/>
          <p:nvPr/>
        </p:nvPicPr>
        <p:blipFill>
          <a:blip r:embed="rId3"/>
          <a:stretch/>
        </p:blipFill>
        <p:spPr>
          <a:xfrm>
            <a:off x="41987880" y="11834640"/>
            <a:ext cx="7943760" cy="4511880"/>
          </a:xfrm>
          <a:prstGeom prst="rect">
            <a:avLst/>
          </a:prstGeom>
          <a:ln w="0">
            <a:noFill/>
          </a:ln>
        </p:spPr>
      </p:pic>
      <p:pic>
        <p:nvPicPr>
          <p:cNvPr id="67" name="" descr=""/>
          <p:cNvPicPr/>
          <p:nvPr/>
        </p:nvPicPr>
        <p:blipFill>
          <a:blip r:embed="rId4"/>
          <a:stretch/>
        </p:blipFill>
        <p:spPr>
          <a:xfrm>
            <a:off x="18562680" y="13011120"/>
            <a:ext cx="3446280" cy="2989440"/>
          </a:xfrm>
          <a:prstGeom prst="rect">
            <a:avLst/>
          </a:prstGeom>
          <a:ln w="0">
            <a:noFill/>
          </a:ln>
        </p:spPr>
      </p:pic>
      <p:pic>
        <p:nvPicPr>
          <p:cNvPr id="68" name="" descr=""/>
          <p:cNvPicPr/>
          <p:nvPr/>
        </p:nvPicPr>
        <p:blipFill>
          <a:blip r:embed="rId5"/>
          <a:stretch/>
        </p:blipFill>
        <p:spPr>
          <a:xfrm>
            <a:off x="23588640" y="12995280"/>
            <a:ext cx="2943360" cy="4591080"/>
          </a:xfrm>
          <a:prstGeom prst="rect">
            <a:avLst/>
          </a:prstGeom>
          <a:ln w="0">
            <a:noFill/>
          </a:ln>
        </p:spPr>
      </p:pic>
      <p:pic>
        <p:nvPicPr>
          <p:cNvPr id="69" name="" descr=""/>
          <p:cNvPicPr/>
          <p:nvPr/>
        </p:nvPicPr>
        <p:blipFill>
          <a:blip r:embed="rId6"/>
          <a:stretch/>
        </p:blipFill>
        <p:spPr>
          <a:xfrm>
            <a:off x="33751800" y="26606520"/>
            <a:ext cx="3733920" cy="4651200"/>
          </a:xfrm>
          <a:prstGeom prst="rect">
            <a:avLst/>
          </a:prstGeom>
          <a:ln w="0">
            <a:noFill/>
          </a:ln>
        </p:spPr>
      </p:pic>
      <p:pic>
        <p:nvPicPr>
          <p:cNvPr id="70" name="" descr=""/>
          <p:cNvPicPr/>
          <p:nvPr/>
        </p:nvPicPr>
        <p:blipFill>
          <a:blip r:embed="rId7"/>
          <a:stretch/>
        </p:blipFill>
        <p:spPr>
          <a:xfrm>
            <a:off x="34585200" y="15689160"/>
            <a:ext cx="3238560" cy="2406600"/>
          </a:xfrm>
          <a:prstGeom prst="rect">
            <a:avLst/>
          </a:prstGeom>
          <a:ln w="0">
            <a:noFill/>
          </a:ln>
        </p:spPr>
      </p:pic>
      <p:pic>
        <p:nvPicPr>
          <p:cNvPr id="71" name="" descr=""/>
          <p:cNvPicPr/>
          <p:nvPr/>
        </p:nvPicPr>
        <p:blipFill>
          <a:blip r:embed="rId8"/>
          <a:stretch/>
        </p:blipFill>
        <p:spPr>
          <a:xfrm>
            <a:off x="17592840" y="25706520"/>
            <a:ext cx="9334440" cy="5600520"/>
          </a:xfrm>
          <a:prstGeom prst="rect">
            <a:avLst/>
          </a:prstGeom>
          <a:ln w="0">
            <a:noFill/>
          </a:ln>
        </p:spPr>
      </p:pic>
      <p:sp>
        <p:nvSpPr>
          <p:cNvPr id="72" name=""/>
          <p:cNvSpPr/>
          <p:nvPr/>
        </p:nvSpPr>
        <p:spPr>
          <a:xfrm>
            <a:off x="18288000" y="24765120"/>
            <a:ext cx="561960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 and their # of nuclear plants.</a:t>
            </a:r>
            <a:endParaRPr b="0" lang="en-US" sz="2400" spc="-1" strike="noStrike">
              <a:solidFill>
                <a:srgbClr val="000000"/>
              </a:solidFill>
              <a:latin typeface="Arial"/>
            </a:endParaRPr>
          </a:p>
        </p:txBody>
      </p:sp>
      <p:sp>
        <p:nvSpPr>
          <p:cNvPr id="73" name=""/>
          <p:cNvSpPr/>
          <p:nvPr/>
        </p:nvSpPr>
        <p:spPr>
          <a:xfrm>
            <a:off x="8542440" y="29082960"/>
            <a:ext cx="240012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anium immediately after mining.</a:t>
            </a:r>
            <a:endParaRPr b="0" lang="en-US" sz="2400" spc="-1" strike="noStrike">
              <a:solidFill>
                <a:srgbClr val="000000"/>
              </a:solidFill>
              <a:latin typeface="Arial"/>
            </a:endParaRPr>
          </a:p>
        </p:txBody>
      </p:sp>
      <p:sp>
        <p:nvSpPr>
          <p:cNvPr id="74" name=""/>
          <p:cNvSpPr/>
          <p:nvPr/>
        </p:nvSpPr>
        <p:spPr>
          <a:xfrm>
            <a:off x="29267280" y="28000440"/>
            <a:ext cx="32763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ernobyl power plant after meltdown.</a:t>
            </a:r>
            <a:endParaRPr b="0" lang="en-US" sz="2400" spc="-1" strike="noStrike">
              <a:solidFill>
                <a:srgbClr val="000000"/>
              </a:solidFill>
              <a:latin typeface="Arial"/>
            </a:endParaRPr>
          </a:p>
        </p:txBody>
      </p:sp>
      <p:sp>
        <p:nvSpPr>
          <p:cNvPr id="75" name=""/>
          <p:cNvSpPr/>
          <p:nvPr/>
        </p:nvSpPr>
        <p:spPr>
          <a:xfrm>
            <a:off x="18268920" y="12001680"/>
            <a:ext cx="792468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left: diagram of nuclear reactor and electric turbines and generators.</a:t>
            </a:r>
            <a:endParaRPr b="0" lang="en-US" sz="2400" spc="-1" strike="noStrike">
              <a:solidFill>
                <a:srgbClr val="000000"/>
              </a:solidFill>
              <a:latin typeface="Arial"/>
            </a:endParaRPr>
          </a:p>
        </p:txBody>
      </p:sp>
      <p:sp>
        <p:nvSpPr>
          <p:cNvPr id="76" name=""/>
          <p:cNvSpPr/>
          <p:nvPr/>
        </p:nvSpPr>
        <p:spPr>
          <a:xfrm>
            <a:off x="17921160" y="16509960"/>
            <a:ext cx="4191120" cy="4597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right: nuclear fission</a:t>
            </a:r>
            <a:endParaRPr b="0" lang="en-US" sz="2400" spc="-1" strike="noStrike">
              <a:solidFill>
                <a:srgbClr val="000000"/>
              </a:solidFill>
              <a:latin typeface="Arial"/>
            </a:endParaRPr>
          </a:p>
        </p:txBody>
      </p:sp>
      <p:sp>
        <p:nvSpPr>
          <p:cNvPr id="77" name=""/>
          <p:cNvSpPr/>
          <p:nvPr/>
        </p:nvSpPr>
        <p:spPr>
          <a:xfrm>
            <a:off x="30117960" y="16144920"/>
            <a:ext cx="38577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of nuclear plant surrounded by forest and farm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MHS</cp:lastModifiedBy>
  <cp:lastPrinted>2010-02-25T14:58:49Z</cp:lastPrinted>
  <dcterms:modified xsi:type="dcterms:W3CDTF">2010-04-07T14:30:59Z</dcterms:modified>
  <cp:revision>445</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