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CD6E-C587-434C-8339-22B5609948F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CD00-9C7F-482D-AB0E-60372C034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23880" y="3840120"/>
            <a:ext cx="29870640" cy="19202400"/>
          </a:xfrm>
          <a:prstGeom prst="rect">
            <a:avLst/>
          </a:prstGeom>
          <a:ln w="0">
            <a:noFill/>
          </a:ln>
        </p:spPr>
      </p:sp>
      <p:sp>
        <p:nvSpPr>
          <p:cNvPr id="64" name="PlaceHolder 2"/>
          <p:cNvSpPr>
            <a:spLocks noGrp="1"/>
          </p:cNvSpPr>
          <p:nvPr>
            <p:ph type="body"/>
          </p:nvPr>
        </p:nvSpPr>
        <p:spPr>
          <a:xfrm>
            <a:off x="3292560" y="24323400"/>
            <a:ext cx="26333280" cy="23042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5CE3-736E-4E75-A1D5-0E50CB7E1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DFE20-C301-4D9F-BEC1-E1E2A823A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5242-8D96-4726-910A-BDD27EBAC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875FD-5607-45FD-B0BC-F2937F8DE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1287-E84C-43B2-B5EE-47D2EB530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4932-A346-4BC0-9D45-2041AFB09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D3CF8-9999-4D99-BD49-C8F51DE3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1199-CD73-4457-A9AD-7E08F148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77D6-BB0C-4C6E-91AF-8560C03F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0695-4B6F-4C68-A617-16A595278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A0BD-9207-4B00-9073-6AC36382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5D02-F851-4974-8049-5CB47921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8FAD-3D8A-46AE-A4F4-FEBF24DEF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62D2-6A99-4D5D-996D-A4C40E40BD76}"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2182680" y="7408800"/>
            <a:ext cx="1051272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Background (Benefits)</a:t>
            </a:r>
            <a:endParaRPr b="0" lang="en-US" sz="4400" spc="-1" strike="noStrike">
              <a:solidFill>
                <a:srgbClr val="000000"/>
              </a:solidFill>
              <a:latin typeface="Arial"/>
            </a:endParaRPr>
          </a:p>
          <a:p>
            <a:pPr>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	</a:t>
            </a:r>
            <a:r>
              <a:rPr b="0" lang="en-US" sz="2600" spc="-1" strike="noStrike">
                <a:solidFill>
                  <a:srgbClr val="000000"/>
                </a:solidFill>
                <a:latin typeface="Times New Roman"/>
              </a:rPr>
              <a:t>Oil is a liquid containing high levels of carbon and hydrogen. There are many types and many uses involved  with oil. Examples are mineral oil , essential oil, organic oil and, synthetic oil. Examples are mineral oils,  essential oil, organic oil and synthetic oil. Mineral oils can be found  with in rocks found underground. Essential oil is concentrated and comes from plants. Organic oils are also found in plants, and animals. They go through the organic process. Synthetic  oils are artificially made chemical compounds. Oil continues to play an essential role in the global economy. Oil can be used for a wide variety of different things. It is used in many different types of foods.  There is vegetable oil , coconut oil, peanut oil and, olive oil. It is used for gasoline in car’s engine, which is a product of great demand. Oil is also used to create electricity, this is done using steam engines. Oil is great for heat transportation because oils have higher boiling points than water and are very useful in liquid cooling systems. Some oils can be processed into petroleum. Petroleum is used  in products such as detergents, fertilizer, medicines, paints and, plastics. Lastly, it has been used throughout history and religions. It is seen as a purifier and used in religious ceremonies. Oil is a necessary source energy.</a:t>
            </a:r>
            <a:endParaRPr b="0" lang="en-US" sz="26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2"/>
          <p:cNvSpPr/>
          <p:nvPr/>
        </p:nvSpPr>
        <p:spPr>
          <a:xfrm>
            <a:off x="18910440" y="8983800"/>
            <a:ext cx="13973040" cy="19851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Disadvantages</a:t>
            </a:r>
            <a:r>
              <a:rPr b="1" lang="en-US" sz="4400" spc="-1" strike="noStrike">
                <a:solidFill>
                  <a:srgbClr val="000000"/>
                </a:solidFill>
                <a:latin typeface="Arial"/>
              </a:rPr>
              <a:t>- The way in which we extract oil can be hazardous and problematic. Our need for fossil fuels is affecting the oceans. Drilling, and transportation can seriously harm species in the ocean. A critically endangered population of gray whale is under threat from oil and gas developments. These species are close to extinction. Also, it can be used as a weapon and cause great destruction. It is used in electricity and a lot can go wrong and this could lead to house fires. Oil is flammable so there are a lot of safety cautions to take into consideration. Oil is used for gasoline and this is polluting the air which is contributing to global warming. There are fears that petroleum  is contributing to rapid climate change. Oil is very useful, but it can cause a lot of problems in the environment.</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33cc33"/>
                </a:solidFill>
                <a:latin typeface="Arial"/>
              </a:rPr>
              <a:t>Scale</a:t>
            </a:r>
            <a:r>
              <a:rPr b="1" lang="en-US" sz="4400" spc="-1" strike="noStrike">
                <a:solidFill>
                  <a:srgbClr val="000000"/>
                </a:solidFill>
                <a:latin typeface="Arial"/>
              </a:rPr>
              <a:t>- Its share in the world’s total energy consumption is 35%. It remains well ahead of the other sources of energy. Coal is second at 25%, natural gas 20%, and nuclear power 6%.</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 Box 13"/>
          <p:cNvSpPr/>
          <p:nvPr/>
        </p:nvSpPr>
        <p:spPr>
          <a:xfrm>
            <a:off x="38376360" y="7085160"/>
            <a:ext cx="10512360" cy="6678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 Future of Oil</a:t>
            </a:r>
            <a:endParaRPr b="0" lang="en-US" sz="4400" spc="-1" strike="noStrike">
              <a:solidFill>
                <a:srgbClr val="000000"/>
              </a:solidFill>
              <a:latin typeface="Arial"/>
            </a:endParaRPr>
          </a:p>
          <a:p>
            <a:pPr>
              <a:spcBef>
                <a:spcPts val="2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now to 2020, world oil consumption will rise by almost 60%. Transportation will be the fastest growing oil-consuming sector. By 2025, the number of cars will increase to well over 1.25 billion from about 700 million today. Global consumption of gasoline could double.  </a:t>
            </a:r>
            <a:br>
              <a:rPr sz="3600"/>
            </a:br>
            <a:br>
              <a:rPr sz="3600"/>
            </a:br>
            <a:endParaRPr b="0" lang="en-US" sz="3600" spc="-1" strike="noStrike">
              <a:solidFill>
                <a:srgbClr val="000000"/>
              </a:solidFill>
              <a:latin typeface="Arial"/>
            </a:endParaRPr>
          </a:p>
        </p:txBody>
      </p:sp>
      <p:sp>
        <p:nvSpPr>
          <p:cNvPr id="52"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Josh Wooldridge, Will DePiano</a:t>
            </a:r>
            <a:br>
              <a:rPr sz="6000"/>
            </a:br>
            <a:r>
              <a:rPr b="1"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3"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80"/>
          <p:cNvSpPr/>
          <p:nvPr/>
        </p:nvSpPr>
        <p:spPr>
          <a:xfrm>
            <a:off x="25644600" y="1938240"/>
            <a:ext cx="185760" cy="132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TextBox 69"/>
          <p:cNvSpPr/>
          <p:nvPr/>
        </p:nvSpPr>
        <p:spPr>
          <a:xfrm>
            <a:off x="23860080" y="2286000"/>
            <a:ext cx="242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Lucida Console"/>
              </a:rPr>
              <a:t>OIL</a:t>
            </a:r>
            <a:endParaRPr b="0" lang="en-US" sz="9600" spc="-1" strike="noStrike">
              <a:solidFill>
                <a:srgbClr val="000000"/>
              </a:solidFill>
              <a:latin typeface="Arial"/>
            </a:endParaRPr>
          </a:p>
        </p:txBody>
      </p:sp>
      <p:pic>
        <p:nvPicPr>
          <p:cNvPr id="56" name="Picture 72" descr="http://open.salon.com/blog/stellaa/2008/09/29/files/how-olive-oil-works-31222748225.jpg"/>
          <p:cNvPicPr/>
          <p:nvPr/>
        </p:nvPicPr>
        <p:blipFill>
          <a:blip r:embed="rId1"/>
          <a:stretch/>
        </p:blipFill>
        <p:spPr>
          <a:xfrm>
            <a:off x="3051000" y="20585160"/>
            <a:ext cx="3791160" cy="3152880"/>
          </a:xfrm>
          <a:prstGeom prst="rect">
            <a:avLst/>
          </a:prstGeom>
          <a:ln w="0">
            <a:noFill/>
          </a:ln>
        </p:spPr>
      </p:pic>
      <p:pic>
        <p:nvPicPr>
          <p:cNvPr id="57" name="Picture 74" descr="http://www.energyquest.ca.gov/story/images/chap08_in_barrel_of_oil.jpg"/>
          <p:cNvPicPr/>
          <p:nvPr/>
        </p:nvPicPr>
        <p:blipFill>
          <a:blip r:embed="rId2"/>
          <a:stretch/>
        </p:blipFill>
        <p:spPr>
          <a:xfrm>
            <a:off x="8228160" y="20731320"/>
            <a:ext cx="3809880" cy="3809880"/>
          </a:xfrm>
          <a:prstGeom prst="rect">
            <a:avLst/>
          </a:prstGeom>
          <a:ln w="0">
            <a:noFill/>
          </a:ln>
        </p:spPr>
      </p:pic>
      <p:pic>
        <p:nvPicPr>
          <p:cNvPr id="58" name="Picture 76" descr="http://celebrating200years.noaa.gov/events/exxonvaldez/oil_pool650.jpg"/>
          <p:cNvPicPr/>
          <p:nvPr/>
        </p:nvPicPr>
        <p:blipFill>
          <a:blip r:embed="rId3"/>
          <a:stretch/>
        </p:blipFill>
        <p:spPr>
          <a:xfrm>
            <a:off x="2655720" y="26457120"/>
            <a:ext cx="4762800" cy="3191040"/>
          </a:xfrm>
          <a:prstGeom prst="rect">
            <a:avLst/>
          </a:prstGeom>
          <a:ln w="0">
            <a:noFill/>
          </a:ln>
        </p:spPr>
      </p:pic>
      <p:pic>
        <p:nvPicPr>
          <p:cNvPr id="59" name="Picture 78" descr="http://www.solcomhouse.com/images/oil_shale-600.jpg"/>
          <p:cNvPicPr/>
          <p:nvPr/>
        </p:nvPicPr>
        <p:blipFill>
          <a:blip r:embed="rId4"/>
          <a:stretch/>
        </p:blipFill>
        <p:spPr>
          <a:xfrm>
            <a:off x="7535880" y="26304840"/>
            <a:ext cx="4962600" cy="3498840"/>
          </a:xfrm>
          <a:prstGeom prst="rect">
            <a:avLst/>
          </a:prstGeom>
          <a:ln w="0">
            <a:noFill/>
          </a:ln>
        </p:spPr>
      </p:pic>
      <p:pic>
        <p:nvPicPr>
          <p:cNvPr id="60" name="" descr=""/>
          <p:cNvPicPr/>
          <p:nvPr/>
        </p:nvPicPr>
        <p:blipFill>
          <a:blip r:embed="rId5"/>
          <a:stretch/>
        </p:blipFill>
        <p:spPr>
          <a:xfrm>
            <a:off x="39474720" y="16401960"/>
            <a:ext cx="8274240" cy="5800680"/>
          </a:xfrm>
          <a:prstGeom prst="rect">
            <a:avLst/>
          </a:prstGeom>
          <a:ln w="0">
            <a:noFill/>
          </a:ln>
        </p:spPr>
      </p:pic>
      <p:pic>
        <p:nvPicPr>
          <p:cNvPr id="61" name="" descr=""/>
          <p:cNvPicPr/>
          <p:nvPr/>
        </p:nvPicPr>
        <p:blipFill>
          <a:blip r:embed="rId6"/>
          <a:stretch/>
        </p:blipFill>
        <p:spPr>
          <a:xfrm>
            <a:off x="36671400" y="22812480"/>
            <a:ext cx="13182480" cy="7562880"/>
          </a:xfrm>
          <a:prstGeom prst="rect">
            <a:avLst/>
          </a:prstGeom>
          <a:ln w="0">
            <a:noFill/>
          </a:ln>
        </p:spPr>
      </p:pic>
      <p:sp>
        <p:nvSpPr>
          <p:cNvPr id="62" name=""/>
          <p:cNvSpPr/>
          <p:nvPr/>
        </p:nvSpPr>
        <p:spPr>
          <a:xfrm>
            <a:off x="39747960" y="14887440"/>
            <a:ext cx="7772400" cy="7034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u="sng">
                <a:solidFill>
                  <a:srgbClr val="33cc33"/>
                </a:solidFill>
                <a:uFillTx/>
                <a:latin typeface="Arial"/>
              </a:rPr>
              <a:t>CO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Will</cp:lastModifiedBy>
  <cp:lastPrinted>2010-02-25T14:58:49Z</cp:lastPrinted>
  <dcterms:modified xsi:type="dcterms:W3CDTF">2010-03-30T22:35:04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